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297B-8AD5-4268-AAF6-2FA22C65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F2A-FBD3-43DE-A28B-7ABBAF896AC1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F8EF-45A5-4BAF-92A5-CCBCF7AE23A1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53F-0EBE-4194-8F4F-A978B3E3490A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7021-954B-4046-A1A2-D2B69F23C62A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FAD7-D21A-467D-B79F-6B33E30189CB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66F-1220-4BC3-A9C6-8D11F61D047C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3EBC-6E80-4874-93E6-1B2FA62C1188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02A-369A-43E1-982F-187C6E657A3D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A0F1-75EC-4DB2-9FA2-99D86DAEC302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6CE4-755A-4EBA-B1F1-BB47BE9FCAF7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58F-262E-46F0-AF9C-8548DE2FEFA6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F7E-B157-4D2E-B0FB-3C6F64A62255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64FD-BC2A-48FC-AF17-03CD979F2D41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D5A-504B-450B-AF93-1C834A30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EB8-7615-440C-BA89-F904CC8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F6D-4D0C-43F2-B6DC-A40B462A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7E9-56AD-4F27-8D32-8F460022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7932-AD24-454C-A1B0-E2F65694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B6B5-D3EE-4B44-9B6B-AC0F74B2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B7B7-BB83-43C8-8D5D-A56DEA8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190-7209-45F6-9644-0017016B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4403-D484-4249-8E7D-0396242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5325-BA2E-4839-AB82-FC15085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AC1D-885E-4FE2-B2D4-72FC2FE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414-7AAA-447F-9BE6-838B06E0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AF8B-EBD9-486F-BBE7-1F111022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1EF1-E4F8-4FFF-8F52-4969148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F06A-47B4-466A-B424-107FCE1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686-077E-484F-8A69-3DF712DD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A28-266A-4642-B0A8-57F2BA5A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1C1-6B1D-4173-AA81-8A1B85E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142-308A-4B0C-9838-496E7DA5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DC2-6191-41FA-AF46-185D77DC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C03-455A-4506-846F-F0AFC686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537-3D73-4E03-B333-5DC94F0C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30A-903E-4145-A84A-6170ED1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526-1890-4F25-9B53-8A98224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34F-C3B1-4AAE-A5AA-AC4586488A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 Tj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 Tj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 Tj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1EE-054C-43CC-BFE2-A100DC276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-2286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563868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Ассадулл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улом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Муовини аввали Сарвазири  Ҷумҳурии Тоҷикисто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 Tj"/>
              </a:rPr>
              <a:t>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i="1" lang="en-US" sz="39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Шўро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 Миллии Рушди назд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Президент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 Tj"/>
              </a:rPr>
              <a:t>Ҷумҳурии Тоҷикистон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 Tj"/>
              </a:rPr>
              <a:t> </a:t>
            </a:r>
            <a:br>
              <a:rPr sz="3900"/>
            </a:br>
            <a:br>
              <a:rPr sz="39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Форуми Рушди Тоҷикистон</a:t>
            </a:r>
            <a:br>
              <a:rPr sz="2400"/>
            </a:br>
            <a:br>
              <a:rPr sz="1800"/>
            </a:br>
            <a:r>
              <a:rPr b="1" lang="ru-RU" sz="1500" spc="-1" strike="noStrike">
                <a:solidFill>
                  <a:srgbClr val="000000"/>
                </a:solidFill>
                <a:latin typeface="Times New Roman Tj"/>
              </a:rPr>
              <a:t>3-4 декабри соли 20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 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Энергетика ва н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лиёт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Мушкилот ва дурнамо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Дастовард</a:t>
            </a:r>
            <a:r>
              <a:rPr b="1" i="1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о ва афзалият</a:t>
            </a:r>
            <a:r>
              <a:rPr b="1" i="1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Tj"/>
              </a:rPr>
              <a:t>о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95080"/>
            <a:ext cx="77932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лиёт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―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дастовард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Чорд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ло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 оиди б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р намудан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лат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 ан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м дода шуданд ё дар рафти татб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карор доранд, аз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мла 1,630 км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, 15 км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б, без аз 100 купрук ягонагии милли ва пайвасти ми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виро б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р менамоянд (купруки Пан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Поён бо А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нистон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Маб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гузории буд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ети барои ни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дори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 то $300/км афзуд, к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нуз 1/4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ссаи талабот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дди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лро ташкил мед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диди сохтории с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и авиатсия, т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зоти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к Айр ва фурўд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Душанбе (дар рафти татб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рор доранд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лиёт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―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ушкилоти асос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нфрасохтори бисёре аз с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авиатсияи милли,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 ва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дар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ла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й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оатба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 дорад – новобаста аз даромади он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истон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уз дар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лати нисбатан бумбас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 дорад – бо сабаби хат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уд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вои ва замини бо ми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 ва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лати хароб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ллию д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т дастрасиро ба бозор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ллию ми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ви 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уд месозад, ки он с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бкории д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тро мушкил мегардона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6714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Стратегияи 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лиёт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(СПКСК-3, 2010-1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дома додан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рорсози ва т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диди шабак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бо 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ади кам кардани ха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ти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лиёт, мусоидат ба савдои дохилию беруни ва таъмини в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дати 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имоию сиёс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Рушди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лиёт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тавассути бахши хусус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Бехтар намудани самаранокии системаи 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даи 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Мусоидат ба рушди бахши хусуси дар авиатсия бо 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ади бунёди сохтори шаффофи институтсионали ва маб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гузории самараноки давлати ба инфрасохтори институтсионал (аз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мла, назорати тариф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лиёт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вои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Сиёсати 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лиёт ва афзалият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исло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т, 2010-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Ҷ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лби сармояи хусусию давла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махсусан барои р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лиёти р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и ва авиатсияи гражд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Инкишофи сармояи 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мшарикии давлатию хусуси бо 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сади бунёди заминаи боэътимоди танзимкунан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Ба ан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м расондан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роркуни ва т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диди р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и асосии транзитии ми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ви ва шабак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бе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тар намудани вазъи р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ои м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алли ва ниг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дории р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ои де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 Tj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ндешидани тадбир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 оиди бартараф кардани моне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 дар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лиёт ва савдои байналмил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16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1040" y="747360"/>
            <a:ext cx="856296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аб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гузории умуми ва масофаи умумии ро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и ба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ароргардида, 2007-1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152280" y="2438280"/>
          <a:ext cx="899172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899172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5960" y="533520"/>
            <a:ext cx="8029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аб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гузори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лиёт ва коммуникатсия, 2007-1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476280" y="2590920"/>
          <a:ext cx="821052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90920"/>
                    <a:ext cx="82105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аълумоти уму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идори гидроэнергетикии То</a:t>
            </a:r>
            <a:r>
              <a:rPr b="1" lang="ru-RU" sz="18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истон 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иб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140 ГВт/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уда, захира</a:t>
            </a:r>
            <a:r>
              <a:rPr b="0" lang="ru-RU" sz="18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умумии солонаи тавлиди неру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ибан баробар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527 млрд. кВт/с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мебошад, ки тан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5%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и ин захир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мавриди истифодаан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98%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и тавлиди нерў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о нерў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оби ташкил мед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д, ки 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иб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40%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и онро ширкати "Алюминии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" 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15%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-и онро системаи ирригатсиони истеъмол менамоянд. Дар мавсими тобистон 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иб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4 млрд. кВт/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нерў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изофа буда, мавсими тирам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 зимисто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3 млрд. кВт/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норасоги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э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ос мегард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и умумии солонаи тавлиди нерў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дар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нерў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бузург,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227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нерў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хурди оби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марказ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 гарми феълан ба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соби миёна баробар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 Tj"/>
              </a:rPr>
              <a:t>16 млрд. кВт/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мебош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аромадани яке аз </a:t>
            </a:r>
            <a:r>
              <a:rPr b="0" lang="ru-RU" sz="18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мсар</a:t>
            </a:r>
            <a:r>
              <a:rPr b="0" lang="ru-RU" sz="18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ди мо аз системаи ягонаи таъминот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Осиёи Маркази воридот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дар мавсими сарм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тъ намуд ва система бештар осебпазир гарди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93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Дастовард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8288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кмили сохтории "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" ва "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газ" (мавриди тат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 доранд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созии нерў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оби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и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ва хат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ин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л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т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барно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барои кам кардани талафоти нерў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ва сарфаи он, аз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мла, такмили система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соби истифода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, равшанид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д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каммасра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кмили системаи тариф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т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созии ха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(то с.201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лби му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ми давлат кам гардид: масалан, "Помир энер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" (мансуби Хазинаи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Хон, КБМ, Котиботи давлатии Швейтсария оид ба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исод), Сангтўда 1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кумат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м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рии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истон ва РАО/ЕЭС-корхонаи муштарак), ва Сангтўда 2 (дар асоси консессия барои 12½ сол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ушкилоти асос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7600" y="182880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доракунии номукаммал дар сектор, сат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паст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мъоварии пардохт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 ва дар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и баланди талафот, ки ха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йрисамаранокро ба миён меорад (то 10% аз ММД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ъсири манфии 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имоию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исодии таъмини ноустувори б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з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мла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К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ши мавсими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зимисто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ст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олоти саноат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силнокии паст бо сабаби мав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д набудан ва ё таъмини ноустувори обёри тавассути насос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К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ш ёфтани давомот дар мактаб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, махсусан дар мактаб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д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Коста гардидани сифати хизматрасон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тибб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артараф намудани система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йрисамаранок―бахусус мусоидат ба паст кардани талафот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дар тамоми кишва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Кам кардани норасоги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дар мавсими сармо тавассут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/т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иди Нерў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оби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и Норак ва маркази гармию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ш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и Душанбе ва пайвастани ми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кишвар бо системаи энергетики, ки феълан ан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м дода нашудаа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кмили сохтории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идор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, бахусус б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р намудани идоракунии умуми ва фаъолияти ти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рати, молияви ва амалиёти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 ва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трансгаз, аз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мла, бе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ошти шаффофият дар нархгузории нерў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лби маб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иловагии бахши хусус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з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умл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мшарикии давла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хусус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ушкилот ва вазифа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Стратегияи энергетика (СПКСК, 2010-1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даф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и дарозмў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ла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То соли 2017 ноил шудан ба и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лолияти энергетики, аз 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умла, таъмини 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оли бо нерў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дар як шабонарўз аз 14 соати соли 2008 то 24 соат дар соли 20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Кам кардани талафоти нерў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аз ≈14%-и соли 2008 то 10% дар соли 20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фзудани содироти нерў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 (аз 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умла, ба Осиёи Маркази в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Ҷ</a:t>
            </a:r>
            <a:r>
              <a:rPr b="0" lang="ru-RU" sz="2400" spc="-1" strike="noStrike">
                <a:solidFill>
                  <a:srgbClr val="000000"/>
                </a:solidFill>
                <a:latin typeface="Times New Roman Tj"/>
              </a:rPr>
              <a:t>ануби) ва даромад аз содир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Афзалият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и со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, 2010-1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284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дома додани б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роркуни ва т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диди восит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мав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даи тавлид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, хат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и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л ва 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имоти он бо 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ади кам кардани талафот ва баланд бардоштани самаранок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Ба ан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м расондани сохтмон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100 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нерўго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оби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лби маб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бахши хусуси ва давлати 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ти бунёди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идор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иловаги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(масалан, 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н) ва хат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и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л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бо 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ади инкишофи бозор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ми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вии содирот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охтмони хат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и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л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бо 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ади дастрас гардидани нерўи б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 ба тамоми ми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кишва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Татб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лои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ои исте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соли ангишт ва т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у коркарди захира</a:t>
            </a:r>
            <a:r>
              <a:rPr b="0" lang="ru-RU" sz="24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200" spc="-1" strike="noStrike">
                <a:solidFill>
                  <a:srgbClr val="000000"/>
                </a:solidFill>
                <a:latin typeface="Times New Roman Tj"/>
              </a:rPr>
              <a:t>и нафту газ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Э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тиё</a:t>
            </a:r>
            <a:r>
              <a:rPr b="1" i="1" lang="ru-RU" sz="32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оти молиявии сектори               энергетика—СПКСК-3, 2010-1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762120" y="2514600"/>
          <a:ext cx="804204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80420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истон баромад ба б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 надорад ва кў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стон буда, аз б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 3.000 км дур мебошад, бинобар ин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вои,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 ва шабак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дорои 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мияти калон мебошан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Бештари инфрасохтор аз замони шўрави б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и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 мондааст, вале бо сабаб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ниг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ор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йрисамаранок,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ги ш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рванди, офат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и табии коста шудаа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вассут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90%-и мусофирон ва 2/3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ссаи мол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кашонида мешаванд, вале 2/3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сса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дар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лати хароб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рор доран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Се хатти напайвастаи р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 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н воридот (боксит) ва содироти (алюминий) асосиро 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л мекунан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Тан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 2 хатти парвози м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лли ва 2 хатти асосии парвози байналмилали То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икистонро бо 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ҷ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"/>
              </a:rPr>
              <a:t>ҳ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он мепайванд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лиёт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―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 Tj"/>
              </a:rPr>
              <a:t>маълумоти уму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ideraj Akrami</dc:creator>
  <dc:description/>
  <dc:language>en-US</dc:language>
  <cp:lastModifiedBy>XP SP2</cp:lastModifiedBy>
  <dcterms:modified xsi:type="dcterms:W3CDTF">2010-11-29T06:25:35Z</dcterms:modified>
  <cp:revision>2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