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C653-7584-44F2-8BBA-255A685ED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A2CF-90F7-4A0E-921D-30F47AAA7B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0413-37BE-4B5A-8CD6-A934EE2A6D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528C-8CC2-44F8-94EA-82226DC7C4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9947-59C3-471F-A017-9175D93731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4691-F82D-4F23-BE49-9A1D15D3EC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96EE-8141-4470-8344-7184AA1870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F288-EADE-4F4A-A055-659A9E204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01A9-1944-4965-A8CA-9748433CD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09AA-F105-44B5-97C8-D2F7431B8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B14B-B75F-4E71-9045-9E4F5EB78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4190-7C60-4EA7-9CD2-821E4D7A6B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759A-EC3C-4CA7-8200-99509A6D9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65F9-1FA1-4887-87C0-ADFB7E76DF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9A0F-FE96-4AD0-9156-D429B8D23F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007-DFE2-4840-80AB-2B6B1CD0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DEE-6533-467C-A1BB-4013F787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56A-CA6A-49E0-BBFF-FD27626C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A5C-2A3D-476C-B67F-7DAA2F01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EAB9-2736-46E9-B688-E2F0B739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6F94-CE49-4E7E-9703-D6433956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FA7D-BC3B-40BA-9236-D2082A5D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467B-BF3E-4796-85C5-A8719FE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7EDB-5038-42BC-AD83-2BA5F2B7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CA8B-FFE1-478B-9828-FBF5FD40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12A8-4A0B-43B6-AB77-8EBC4AF7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50A-DCB7-4448-9ECF-F984AC6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8B86-E538-443D-8ED6-C725C6C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1A5D-94BD-41A4-A7D8-AD4C9426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C1F5-6CC1-435F-A7E6-E72E555A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8D87-35BF-4109-8AA9-E5F462AD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6386-7271-4BB1-992E-8E97E635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B92A-6A12-4228-8F58-1993A757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3B1F-3A33-4F53-8A44-9FE58664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FE02-4689-4524-A338-4BAF27FE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46CE-9074-4CD3-AF10-E816B334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4FDB-CAF2-4EAE-82EF-9031FDDE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5D7-D2E1-42FD-A852-C3C0AA7C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B554-215B-4810-B2EC-10475A18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C3EE-60C5-4AE9-A3D9-ACE6748F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3045-33CD-4AFA-8CA1-C22FBB7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DE33-03E0-4567-A929-FF962FC4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83DD-CE7C-4F5A-B69C-AFDE5D79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EA94-EB66-43DC-8901-12040A4A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F9DA-A369-47D4-B925-BD85C27C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5C0-12AC-4CB1-8D57-DCEA8810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6F5-E729-4F60-B45B-C84B34D0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119-05B9-404B-AD22-467578C2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7A1-414A-47DE-9781-775CFFD1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B09-B318-4AB4-AB95-ADB41BC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31D-5F65-4A4C-A544-0441C123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DB86-77A0-4A52-9318-F0DF0EA18FC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7902-EC9A-45F4-A011-E38802EC021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A835-CC39-4A2D-8188-73E36F42C53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-2286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213920"/>
            <a:ext cx="838224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Шўро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 милли рушди назд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Президент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Љумњурии Тољикистон</a:t>
            </a:r>
            <a:br>
              <a:rPr sz="2800"/>
            </a:br>
            <a:br>
              <a:rPr sz="20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Форуми рушд</a:t>
            </a:r>
            <a:br>
              <a:rPr sz="2800"/>
            </a:br>
            <a:br>
              <a:rPr sz="1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 декабр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с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 Рушди бахши хусусї ва ислоњоти бахши кишоварз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дастовардњо, мушкилот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ќадамњои оянд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85840" y="6072120"/>
            <a:ext cx="4352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 Tj"/>
              </a:rPr>
              <a:t>Муродалї Алимардо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 Tj"/>
              </a:rPr>
              <a:t>Муовини Сарвазири Љумњурии Тољикистон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054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80520" y="1509480"/>
            <a:ext cx="833436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Њалли ќарзи пахта, њамчунин таъмини бењдошти системаи тањвили мањсулоти бахши кишоварзї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зодї ба дењќонон” љињати мусоидат ба диверсификатсия мањсулоти кишоварзї дар ноњияњо (яъне даст кашидан аз истењсоли пахта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Бештар аз 10,000 сертификати истифодабарандагони замин ба хољагињои оилавї дода мешаванд, њамзамон соњибони замин ба њимояи бештар ниёз доран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Лоињаи Кодекси замин, ки таъсиси бозори њуќуќњои заминистифодабариро пешбинї менамояд, соли 2010 пешнињод гардида, соли 2011 татбиќ мегарда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еханизмњо љињати таъмини дастрасии хољагињои дењќонї ба воситањои ќарзї ва ирригатсия тањия мегардан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уайян намудани принсипњои ислоњоти маќомоти давлатии идоракунии марказию мањаллї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2A14-382C-45AE-AE53-ABB1CEECBF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9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99760" y="428400"/>
            <a:ext cx="71391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Ислоњоти кишоварзї: дастовардњо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ва мушкилот (2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6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200" name="Номер слайда 5"/>
          <p:cNvSpPr/>
          <p:nvPr/>
        </p:nvSpPr>
        <p:spPr>
          <a:xfrm>
            <a:off x="7956720" y="649296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D213-5C4A-471B-92CA-68C4C8FBCE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9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357120" y="1841400"/>
            <a:ext cx="82296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Фароњам намудани имкониятњои умумии иќтисодї, њуќуќї, молиявї ва андозбандї дар соњаи агробизнес, таъмини њимояи фазои соњибкорї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тбиќи стратегияи ислоњоти кишоварзї, ки ба афзоиши даромади хољагињои дењќонї равона гардидааст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ъмини татбиќи саросарии ‘озодї ба дењќон’, яъне фароњам намудани имконият ба хољагињои дењќонї ва соњибкории соњањои коркарди мањсулоти кишоварзї љињати мустаќилона муайян намудани истењсоли мањсулот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кмили ќонунгузорї оид ба њимояи њуќуќи моликия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нзими дастрасї ба замин бо маќсади баќайдгирї / кадастр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9760" y="571320"/>
            <a:ext cx="71391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Ислоњоти кишоварзї: дастовардњо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ва мушкилот (3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28400"/>
            <a:ext cx="746748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Афзалиятњои рушди бахши кишоварзї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ADCA-5902-48C2-9669-7B2FB80CBC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9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357120" y="128592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Дар заминаи сабаќњои андўхта (2007-09) ва афзалиятњои СМР/СПКСК-3, њадафњои асосии рушди кишоварзї, аз љумла, амнияти озуќаворї барои солњои 2010-12 аз инњо иборатанд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баланд бардоштани самаранокии соња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махсусан 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зерсоњаи пахта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бењтар намудани муњит барои рушди соњибкорї дар дењо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њкими њимояи њуќуќњои истифодаи замин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ъмини самаранокии бештари системаи идоракунї 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ва истифодаи инфрасохтор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кишоварзї, аз љумла, 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рригатсионї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ъмини ѓизои зарурї барои ањолии дењо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28480" y="636120"/>
            <a:ext cx="6933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Наќшаи сармоягузории кишоварзї ва талаботи молиявї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7120" y="1912680"/>
            <a:ext cx="807264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ар заминаи афзалиятњои рушд ва ислоњоти пешбинигардида Њукумат наќшаи панљсолаи сармоягузорї (2010-15) омода наму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Сармоягузории пешбинигардида дар маљмўъ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28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лр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олл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МА-ро ташкил медињад ва ё  200 млн. долл. ИМА солона, баробар ба 3-4%-и ММ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аблаѓгузории шарикони рушд таќрибан 380 млн. долл. ИМА-ро ташкил медиња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аблаѓгузорї аз њисоби буљет таќрибан 72 млн. долл. ИМА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о ташкил медиња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Њамин тариќ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ќрибан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830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лн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олл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МА воситањои иловагии молиявї љињати татбиќи лоињањо дар соли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013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ва солњои минбаъда лозиман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93C9-941F-4D49-BA6D-7E99D062E74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9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Барои диќќататон ташаккур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!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 Tj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54FC-D99F-4887-AAEF-9097FB1FADC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9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404640"/>
            <a:ext cx="707256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Times New Roman Tj"/>
              </a:rPr>
              <a:t>Њадафњо ва самтњои асосии СПКСК-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341000"/>
            <a:ext cx="814392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 Tj"/>
              </a:rPr>
              <a:t>Мусоидат ба рушди устувори иќтисодї ва диверсификатсияи иќтисодиёт тавассути рушди бахши хусусї ва њавасмандгардонии инвеститсияњо дар самтњои афзалиятнок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 Tj"/>
              </a:rPr>
              <a:t>махсусан кишоварзї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 Tj"/>
              </a:rPr>
              <a:t>њамчунин дар соњаи энергетика ва инфрасохтори наќлиёт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—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Tj"/>
              </a:rPr>
              <a:t>њадафи дуюми СПКСК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Боби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3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банди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7)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FA0F-A732-4C4C-A341-D10710EA7C4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3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160" name="Содержимое 6"/>
          <p:cNvSpPr/>
          <p:nvPr/>
        </p:nvSpPr>
        <p:spPr>
          <a:xfrm>
            <a:off x="642960" y="1428840"/>
            <a:ext cx="7169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71760" y="428760"/>
            <a:ext cx="68580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Рушди бахши хусусї - ин бењтар гардидани фазои соњибкорис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7120" y="1928520"/>
            <a:ext cx="81439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ибќи тањлилњои БЉ/КБМ оид ба пешбурди соњибкорї 2011, Тољикистон њамчун ислоњотчии фаъол арзёбї мегардад―дар зинаи 139 аз 183 кишвар (дар соли 2010―149/183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Барномаи “200 рўзи ислоњот” ва  “Равзанаи ягона” расмиёти маъмурї ва меъёриро содда гардонид—мавќеи кишварро аз љињати Оѓози фаъолияти соњибкорї 15 зина боло бур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Содда ва самаранок намудани расмиёти содиротию воридотї мавќеи кишварро дар Савдои наздисарњадї мустањкам наму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ндоз аз арзиши иловашуда аз 20% то 18% ва андоз аз даромад аз 25% то 15% паст гарди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екабри соли 2007 Шўрои инвеститсионї таъсис дода шуд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AD80-0753-47E7-81AC-E3FC93D50C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3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166" name="Содержимое 6"/>
          <p:cNvSpPr/>
          <p:nvPr/>
        </p:nvSpPr>
        <p:spPr>
          <a:xfrm>
            <a:off x="642960" y="1357200"/>
            <a:ext cx="2286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Tj"/>
              </a:rPr>
              <a:t>Дастовардњ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356760"/>
            <a:ext cx="66294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Фазои соњибкорї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5840" y="1856880"/>
            <a:ext cx="7929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Сатњи пасти њосилнокии мењнат ва сустии низоми асосноксозї нисбат ба мењнати истењсолї дар бахши воќеии иќтисодиёт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ављуд будани монеањои маъмурї њангоми воридот ба бозо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Сатњи баланди харољот њангоми амалї намудани соњибкорї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з сабаби мушкилоти инфрасохторї, махсусан мањдудияти таъминот бо ќувваи барќ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ављуд набудани механизми ягонаи љалби сармоягузорињо ва истифодаи имтиёзу кафолатњо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ављудияти  андозбандии номукаммал њангоми пешбурди фаъолияти соњибкорї ва такмили он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 Tj"/>
              </a:rPr>
              <a:t>Мањдудияти иттилоотї барои субъектњои соњибкор, набудани фењристи мукаммал ва ягона оид ба фаъолияти сармоягузорон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74AB-BA7E-4C53-AC10-749A4A7C2C1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3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172" name="Содержимое 6"/>
          <p:cNvSpPr/>
          <p:nvPr/>
        </p:nvSpPr>
        <p:spPr>
          <a:xfrm>
            <a:off x="571680" y="1214280"/>
            <a:ext cx="3000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Мушкилот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85840" y="1642680"/>
            <a:ext cx="79293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8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200" spc="-1" strike="noStrike">
                <a:solidFill>
                  <a:srgbClr val="000000"/>
                </a:solidFill>
                <a:latin typeface="Times New Roman Tj"/>
              </a:rPr>
              <a:t>Идома додани татбиќи ислоњоти сохторї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8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200" spc="-1" strike="noStrike">
                <a:solidFill>
                  <a:srgbClr val="000000"/>
                </a:solidFill>
                <a:latin typeface="Times New Roman Tj"/>
              </a:rPr>
              <a:t>Таъмини низоми ягонаи њуќуќии љалби сармоягузорињо ва пешнињоди кафолату имтиёзњо ба сармоягузорони хориљию ватанї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8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200" spc="-1" strike="noStrike">
                <a:solidFill>
                  <a:srgbClr val="000000"/>
                </a:solidFill>
                <a:latin typeface="Times New Roman Tj"/>
              </a:rPr>
              <a:t>Таъсиси махзани ягонаи иттилоотї барои сармоягузорон ва соњибкорон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8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200" spc="-1" strike="noStrike">
                <a:solidFill>
                  <a:srgbClr val="000000"/>
                </a:solidFill>
                <a:latin typeface="Times New Roman Tj"/>
              </a:rPr>
              <a:t>Кам кардани монеањо ва харољот њангоми анљом додани фаъолияти соњибкорї ва сармоягузорї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8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Бењтар ва мукаммал намудани системаи андозбандии соњибкорї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8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Расонидани кўмак тариќи омўзиш, таъсиси ассотсиатсияњои соњибкорон ва ѓ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87BB-D289-4730-95ED-9E4BFEFAC4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13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177" name="Содержимое 6"/>
          <p:cNvSpPr/>
          <p:nvPr/>
        </p:nvSpPr>
        <p:spPr>
          <a:xfrm>
            <a:off x="571680" y="1214280"/>
            <a:ext cx="5072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Афзалиятњои СПКС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010-12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42680" y="428400"/>
            <a:ext cx="66294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Фазои соњибкорї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2"/>
          <a:stretch/>
        </p:blipFill>
        <p:spPr>
          <a:xfrm>
            <a:off x="523800" y="781200"/>
            <a:ext cx="7785000" cy="803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29920" y="1714680"/>
            <a:ext cx="7970760" cy="471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algn="just"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 Tj"/>
              </a:rPr>
              <a:t>Бењтар намудани фазои соњибкорї дар маљмўъ ба рушди минбаъдаи бахши кишоварзї ва фаъолияти соњибкорї дар ин бахш мусоидат менамояд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 Tj"/>
              </a:rPr>
              <a:t>Бо назардошти эњтиёљоти зиёди молиявї дар бахши кишоварзї/агробизнес барои давраи 2010-15—ва мањдуд будани воситањои буљетию кўмакњои расмии беруна—рушди бахши хусусї ва сармоягузорї барои таъмини рушди кишоварзї ва иќтисодиёт дар маљмўъ ањамияти калон дорад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 Tj"/>
              </a:rPr>
              <a:t>Сармоягузории бахши хусусї махсусан љињати мусоидат ба диверсификатсияи кишоварзї ва инкишофи соњањои коркарди агросаноатї ва дигар соњањои марбут муњим мебошад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42680" y="333000"/>
            <a:ext cx="70009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Бахши кишоварзї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―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маълумоти умумї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85840" y="1411200"/>
            <a:ext cx="86104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Воситаи зиндагии бештар аз 60% ањолї мустаќиман ё ѓайримустаќим аз соњаи кишоварзї вобастагї дорад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Бахши кишоварзї 24%-и ММД, 26%-и даромад аз содирот ва 39%-и даромад аз андозњоро ташкил медињад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Кишоварзї бидуни парвариши пахта метавонад ба рушди минбаъдаи иќтисодї мусоидат намояд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Љињати фарогирии ќувваи кории афзудаистода ва ба таври ѓайримустаќим љуброн намудани камбизоатии дењот ислоњоти таъљилї зарур аст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Ислоњот стратегияи дарозмўњлати рушдро таќозо менамоя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0C0F-0840-4CD8-8F3F-25C6EAFA47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3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054" descr="fon"/>
          <p:cNvPicPr/>
          <p:nvPr/>
        </p:nvPicPr>
        <p:blipFill>
          <a:blip r:embed="rId2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500040"/>
            <a:ext cx="735336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Ќонунгузорї ва њуљљатњои асосии сиёсати кишоварзї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42680"/>
            <a:ext cx="8431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Консепсияи сиёсати аграрии Љумњурии Тољикисто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Барномаи амнияти озуќавории Љумњурии Тољикистон барои давраи то соли 2015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Ќарори 111, Наќшаи чорабинињо барои татбиќи Стратегияи њалли ќарзи хољагињои дењќонї, 2007-200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Фармони Президенти Љумњурии Тољикистон аз 30.05.09 №6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 Tj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ар бораи чорањои иловагї оид ба дастгирии соњаи кишоварзї дар Љумњурии Тољикистон</a:t>
            </a:r>
            <a:r>
              <a:rPr b="0" lang="en-US" sz="2000" spc="-1" strike="noStrike">
                <a:solidFill>
                  <a:srgbClr val="000000"/>
                </a:solidFill>
                <a:latin typeface="Times New Roman Tj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Ќарори Њукумати Љумњурии Тољикистон №406 аз 02.07.09 </a:t>
            </a:r>
            <a:r>
              <a:rPr b="0" lang="en-US" sz="2000" spc="-1" strike="noStrike">
                <a:solidFill>
                  <a:srgbClr val="000000"/>
                </a:solidFill>
                <a:latin typeface="Times New Roman Tj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д ба тадбирњои татбиќи Фармони Президенти Љумњурии Тољикистон  №663</a:t>
            </a:r>
            <a:r>
              <a:rPr b="0" lang="en-US" sz="2000" spc="-1" strike="noStrike">
                <a:solidFill>
                  <a:srgbClr val="000000"/>
                </a:solidFill>
                <a:latin typeface="Times New Roman Tj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Наќшаи сармоягузории кишоварзї барои Љумњурии Тољикистон: барномањо ва тадбирњои пешнињодгардида, 2010-201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162-3EC2-4059-891D-667A2A01EE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9" descr="ARM_!!!.jpg"/>
          <p:cNvPicPr/>
          <p:nvPr/>
        </p:nvPicPr>
        <p:blipFill>
          <a:blip r:embed="rId3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1391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Ислоњоти кишоварзї: дастовардњо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ва мушкилот (1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48068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Дар натиљаи кўшишњои муштараки Њукумат/ Шарикони рушд, сохтори муштарак оид ба мониторинг ва њамоњангсозї таъсис дода шуд, то ки татбиќи фармону ќарорњои зикргардида таъмин гардад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Гурўњи корї дар сатњи баланд оид ба ислоњоти кишоварзї таъсис дода шуд, ки аз коршиносони Њукумат ва Шарикони рушд иборат буда, љињати тањияи стратегияи ислоњоти бахши кишоварзї мусоидат менамояд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Гурўњи корї оид ба ислоњоти кишоварзї аз 6 зергурўњи зерин иборат аст: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Об ва ирригат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Ислоњоти зам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Механизмњои муосири маблаѓгузории кишоварзї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Рушди иљтимоии дењот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Ислоњоти идоракунии мањаллї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Аз эътибор сокит намудани ќарзи пах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Рисунок 9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9:13:56Z</dcterms:created>
  <dc:creator>user</dc:creator>
  <dc:description/>
  <dc:language>en-US</dc:language>
  <cp:lastModifiedBy>XP SP2</cp:lastModifiedBy>
  <dcterms:modified xsi:type="dcterms:W3CDTF">2010-11-26T05:40:14Z</dcterms:modified>
  <cp:revision>152</cp:revision>
  <dc:subject/>
  <dc:title>Вазорати кишоварзии  Љумњурии Тољикистон  мавзўъ: «Раванди татбиќи маќсадњои стратеги ва ќадамњои минбаъда дар самти таъмини амнияти озуќавори ва рушди соњаи кишоварзї»</dc:title>
</cp:coreProperties>
</file>