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825-103F-40C3-9A23-FBB3A617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DA7-904F-45F9-9792-5FBA05A2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116-F620-4FD3-BBE1-C2B351E8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17C-F789-4C62-B2F9-413E349B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A4F-47B6-4060-8965-3A714114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3770-ABDF-4090-92E8-CF7DA6D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AE67-44CC-4FB2-9D8E-17BACBD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544D-C2A9-4181-A41C-0BC2EE67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ACB9-4936-4FC6-A84D-43EB4C6F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41F2-35F8-4505-BF82-50F0E57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36F4-300F-49B7-BE76-A3CEC0E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A2E-A626-4B7F-8A21-5C87805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5CB-CC33-4AC2-B1FC-4A864FB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BFBE-12B9-469E-B6F1-ECB298CA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7DB3-ABDA-4C7E-8336-17DD5444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B1C0-8E4A-4100-A012-5AFB3DF2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3F03-E8A6-40B3-97F0-3B1F13A6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071F-DB24-49EC-939C-9AB651F8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35A3-1956-4B4A-A9B1-C8F35AD9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6EB4-BDAF-4235-BBB7-4ED7150D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C6B1-EFBD-4B20-87B3-6E2B4C61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8450-9935-48F7-A042-9A3D3154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A30-54F8-4086-A70A-FC05E025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E53F-707E-4956-A7F1-7B896CEA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989F-BCD1-4F76-A7D5-CD56B405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6FC5-6E58-4983-A167-4B69968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8646-4FA0-4083-9E62-BD6BFE8C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CA5C-CEA0-4C7A-B2E3-D3A253DE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9621-0509-474B-AC84-99371FFE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7282-A5E2-42CB-BD2F-5A86D642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8EBC-7363-492A-81A2-5E2EAEFA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1FC8-574A-4566-913A-A9804903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E12A-DEE8-48A6-8493-4CEC5942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CCF-B2F8-44E4-B541-738E12AC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7698-1007-4728-AD39-BD9FD31D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1EDA-C68D-49F7-AB8C-C38387AD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7544-4D6A-43AA-BA87-633CF445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7D23-065C-4E54-AC44-6447A02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C1CE-7817-41C7-BCF1-EB08CBCC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1B64-A6B3-4357-9169-BDCC817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6C5F-3DD0-4D77-8013-371AFBC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E4AEF-7193-4931-AA87-C792BEE4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F2B2-3880-4D34-8CD8-AE4843C1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B00-ABD3-4363-947C-323B4D3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DED-AEC1-4FC7-9B64-11219CEA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249-8A78-41F7-A4D3-18C8D88B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4B4-1672-4D99-83BC-AE5781E4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265-C219-4D4C-B9A7-FF71790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E92C-E1DA-4419-9C8D-8AC2E76DE2D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8E8F-DBD4-43DD-8BBC-3AA12D014DD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8964-6D3F-47AA-8CFE-E2950D2BE5E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10A0-9AAB-40BE-A665-A9A6E154245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bour.tj/" TargetMode="External"/><Relationship Id="rId3" Type="http://schemas.openxmlformats.org/officeDocument/2006/relationships/hyperlink" Target="http://www.mintrud.tj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-2286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37720" y="54100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 Tj"/>
              </a:rPr>
              <a:t>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 Tj"/>
              </a:rPr>
              <a:t>Баромад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 Tj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 Tj"/>
              </a:rPr>
              <a:t>Муовини Сарвазири Ҷумҳурии Тоҷикисто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 Tj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 Tj"/>
              </a:rPr>
              <a:t>Курбонова Р.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Times New Roman Tj"/>
              </a:rPr>
              <a:t>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Форуми Рушди Тоҷикистон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 Tj"/>
              </a:rPr>
              <a:t>3-4 декабри соли 201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 </a:t>
            </a:r>
            <a:br>
              <a:rPr sz="2800"/>
            </a:br>
            <a:br>
              <a:rPr sz="2000"/>
            </a:br>
            <a:br>
              <a:rPr sz="20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Раванди татбиқи ҳадафҳои стратегї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 Tj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афзалиятҳои милли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Ҷумҳурии То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 Tj"/>
              </a:rPr>
              <a:t>љ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икистон в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 қадамҳои минбаъда дар ин самт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 Tj"/>
              </a:rPr>
              <a:t>Рушди соҳаҳои иҷтимої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Tj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Times New Roman Tj"/>
              </a:rPr>
              <a:t>адам</a:t>
            </a:r>
            <a:r>
              <a:rPr b="1" lang="tg-Cyrl-TJ" sz="2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lang="ru-RU" sz="2800" spc="-1" strike="noStrike">
                <a:solidFill>
                  <a:srgbClr val="000000"/>
                </a:solidFill>
                <a:latin typeface="Times New Roman Tj"/>
              </a:rPr>
              <a:t>ои минбаъ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 Tj"/>
              </a:rPr>
              <a:t>(умумї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гузаштан ба тањсилоти њатмии 10 сола дар соли 2011 ва тањсилоти миёнаи умумии 12 сола дар соли тањсили 2016/2017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гузариши пурра ба тањсилоти касбии бисёрзинагї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тавассути як марказ – Маркази  миллии тест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гирифтани имтињони дохилшавї ба муассисањои тањсилоти миёна ва олии касбї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гузариш ба маблаѓгузории сарикасї дар дигар зинањои тањсило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Tj"/>
              </a:rPr>
              <a:t>Қ</a:t>
            </a:r>
            <a:r>
              <a:rPr b="1" lang="ru-RU" sz="2400" spc="-1" strike="noStrike">
                <a:solidFill>
                  <a:srgbClr val="000000"/>
                </a:solidFill>
                <a:latin typeface="Times New Roman Tj"/>
              </a:rPr>
              <a:t>адам</a:t>
            </a:r>
            <a:r>
              <a:rPr b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lang="ru-RU" sz="2400" spc="-1" strike="noStrike">
                <a:solidFill>
                  <a:srgbClr val="000000"/>
                </a:solidFill>
                <a:latin typeface="Times New Roman Tj"/>
              </a:rPr>
              <a:t>ои минбаъ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Tj"/>
              </a:rPr>
              <a:t>(мушаххас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 бо маќсади гузариш ба тањсилоти 10 солаи њатмї ва низоми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олаи тањсилот 2144 синфхона (55744 љойи нишаст) сох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ешавад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 барои муассисањои тањсилоти умумї 120 000 љуфт мизу курс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лабагї харидорї мегардад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 87500 нафар омўзгор аз курсњои такмили ихтисос гузарони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ешаванд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 32 млн.920 хазор нусха китоби дарсї тањия ва чоп мешавад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 тамоми муассисањои таълимї бо ИНТЕРНЕТ пайваст кард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ешаванд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 системаи ягонаи идоракунии соњаи маориф љорї карда мешавад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  њадди аќќал 40 фоизи харољоти ба чорабинињои мазкур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ахлдошта ба љалби маблаѓгузории иловагї (аз њисоб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армоягузории хориљї) эњтиёљ дорад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 Tj"/>
              </a:rPr>
              <a:t>Дастовардњо дар самти бењбуди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 Tj"/>
              </a:rPr>
              <a:t>њифзи саломатии модару кўдак ва боздошти пањншавии беморињои  сироят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853452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 Tj"/>
              </a:rPr>
              <a:t>Таъмини солимї – омили паст кардани сатњи камбизоат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82880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 Tj"/>
              </a:rPr>
              <a:t>Фавти кўдакони то 5 сола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 Tj"/>
              </a:rPr>
              <a:t>(нисбати 1 000 зиндатавалл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2438280"/>
          <a:ext cx="426708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4267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426708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 Tj"/>
              </a:rPr>
              <a:t>Фавти модарон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 Tj"/>
              </a:rPr>
              <a:t>(нисбати 100 000 зиндатавалл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952880"/>
          <a:ext cx="441972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952880"/>
                    <a:ext cx="4419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4495680" y="1752480"/>
            <a:ext cx="4648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 Tj"/>
              </a:rPr>
              <a:t>Беморињои  сироятї;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 Tj"/>
              </a:rPr>
              <a:t>(нисбати 100 000 ањол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419720" y="2819520"/>
          <a:ext cx="4724280" cy="365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9720" y="2819520"/>
                    <a:ext cx="4724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4057b"/>
                </a:solidFill>
                <a:latin typeface="Times New Roman Tj"/>
              </a:rPr>
              <a:t>      </a:t>
            </a:r>
            <a:r>
              <a:rPr b="1" lang="ru-RU" sz="3200" spc="-1" strike="noStrike">
                <a:solidFill>
                  <a:srgbClr val="24057b"/>
                </a:solidFill>
                <a:latin typeface="Times New Roman Tj"/>
              </a:rPr>
              <a:t>Дастовардњо дар самти </a:t>
            </a:r>
            <a:br>
              <a:rPr sz="3200"/>
            </a:br>
            <a:r>
              <a:rPr b="1" lang="ru-RU" sz="3200" spc="-1" strike="noStrike">
                <a:solidFill>
                  <a:srgbClr val="24057b"/>
                </a:solidFill>
                <a:latin typeface="Times New Roman Tj"/>
              </a:rPr>
              <a:t>идоракунии тандуруст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Стратегияи рушди соња: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Стратегияи миллии солимии ањолии Љум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урии Т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љ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икистон 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барои солњои 2010-2020,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Наќшаи татбиќи афзалиятњо барои се соли аввал 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ва Матритсаи мониторинг ва ба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оди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ии он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Мукаммалсозии системаи иттилоотии идоракунии тандурустї: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Исло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от дар системаи иттилоотии идоракунии тандурустї (ба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оди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ии пешакї ва коркарди нишонди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анда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ои тандурустї);</a:t>
            </a:r>
            <a:r>
              <a:rPr b="1" i="1" lang="ru-RU" sz="2800" spc="-1" strike="noStrike">
                <a:solidFill>
                  <a:srgbClr val="24057b"/>
                </a:solidFill>
                <a:latin typeface="Times New Roman Tj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Мукаммалсозии тањлили сиёсати тандурустї: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 Tj"/>
              </a:rPr>
              <a:t>Пурзўр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намудани идоракунии тандурустї тавассути нишондод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ои собитгардид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Пурз</a:t>
            </a:r>
            <a:r>
              <a:rPr b="1" lang="ru-RU" sz="2800" spc="-1" strike="noStrike">
                <a:solidFill>
                  <a:srgbClr val="000066"/>
                </a:solidFill>
                <a:latin typeface="Times New Roman Tj"/>
              </a:rPr>
              <a:t>ў</a:t>
            </a: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р намудани механизми мониторинг ва идоракунї: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Таъсис додани шўъба ва бахш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ои тандурустї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Times New Roman Tj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Times New Roman Tj"/>
              </a:rPr>
              <a:t>Дастовардњо дар самти баланд бардоштани самарабахшии системаи маблаѓгузорї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0" y="167652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35000"/>
          </a:bodyPr>
          <a:p>
            <a:pPr marL="33120" indent="-33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" indent="-33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 Tj"/>
              </a:rPr>
              <a:t>Таќсимоти маблаѓњо: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 Tj"/>
              </a:rPr>
              <a:t> Маблаѓгузории сарикасї дар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 Tj"/>
              </a:rPr>
              <a:t>    муассисањои кўмаки аввалияи тиббию санитарї ва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 Tj"/>
              </a:rPr>
              <a:t>    маблаѓгузорї  ба њолатњои табобатшуда дар                сохторњои госпитал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" indent="-33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 Tj"/>
              </a:rPr>
              <a:t>Имтиёзњо: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 Tj"/>
              </a:rPr>
              <a:t>Аз сатњи ноњияњои  тачрибавї то сатњи  вилоят(Суѓд, дар соли 2011) зина ба зина  ворид намудани Барномаи кафолатњои давлатї. 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Times New Roman Tj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5335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 Tj"/>
              </a:rPr>
              <a:t>Дастовардњо дар самти ташкили хизматрасонињои тибб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0" y="1752480"/>
            <a:ext cx="8839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44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4057b"/>
                </a:solidFill>
                <a:latin typeface="Times New Roman Tj"/>
              </a:rPr>
              <a:t>Баланд бардоштани дастрас</a:t>
            </a: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ї</a:t>
            </a:r>
            <a:r>
              <a:rPr b="1" lang="tt-RU" sz="2800" spc="-1" strike="noStrike">
                <a:solidFill>
                  <a:srgbClr val="24057b"/>
                </a:solidFill>
                <a:latin typeface="Times New Roman Tj"/>
              </a:rPr>
              <a:t> ба хизматрасони</a:t>
            </a: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lang="tt-RU" sz="2800" spc="-1" strike="noStrike">
                <a:solidFill>
                  <a:srgbClr val="24057b"/>
                </a:solidFill>
                <a:latin typeface="Times New Roman Tj"/>
              </a:rPr>
              <a:t>ои тибб</a:t>
            </a: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ї</a:t>
            </a:r>
            <a:r>
              <a:rPr b="1" lang="tt-RU" sz="2800" spc="-1" strike="noStrike">
                <a:solidFill>
                  <a:srgbClr val="24057b"/>
                </a:solidFill>
                <a:latin typeface="Times New Roman Tj"/>
              </a:rPr>
              <a:t>:</a:t>
            </a:r>
            <a:r>
              <a:rPr b="1" lang="tt-RU" sz="2400" spc="-1" strike="noStrike">
                <a:solidFill>
                  <a:srgbClr val="24057b"/>
                </a:solidFill>
                <a:latin typeface="Times New Roman Tj"/>
              </a:rPr>
              <a:t> </a:t>
            </a:r>
            <a:r>
              <a:rPr b="1" i="1" lang="tt-RU" sz="2400" spc="-1" strike="noStrike">
                <a:solidFill>
                  <a:srgbClr val="000066"/>
                </a:solidFill>
                <a:latin typeface="Times New Roman Tj"/>
              </a:rPr>
              <a:t>Афзун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 намудани к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ў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маки аввалияи тиббию санитар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ї, омўзиш ва бозомўзии табибон ва њамширањои тибби оилав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Хизматрасонињои махсусгардонидашудаи тиббї:</a:t>
            </a: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Ворид намудани технологияи муосири ташхисию табобатї (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амалиёт дар дилу рагњо, иваз намудани гурда, эндопротези бу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ѓ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ум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о, табобати беморон бо истифодаи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у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љ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айра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ои бунёд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ї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4057b"/>
                </a:solidFill>
                <a:latin typeface="Times New Roman Tj"/>
              </a:rPr>
              <a:t>Баланд бардоштани сифати хизматрасони</a:t>
            </a: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lang="tt-RU" sz="2800" spc="-1" strike="noStrike">
                <a:solidFill>
                  <a:srgbClr val="24057b"/>
                </a:solidFill>
                <a:latin typeface="Times New Roman Tj"/>
              </a:rPr>
              <a:t>ои тибб</a:t>
            </a:r>
            <a:r>
              <a:rPr b="1" lang="ru-RU" sz="2800" spc="-1" strike="noStrike">
                <a:solidFill>
                  <a:srgbClr val="24057b"/>
                </a:solidFill>
                <a:latin typeface="Times New Roman Tj"/>
              </a:rPr>
              <a:t>ї</a:t>
            </a:r>
            <a:r>
              <a:rPr b="1" lang="tt-RU" sz="2800" spc="-1" strike="noStrike">
                <a:solidFill>
                  <a:srgbClr val="24057b"/>
                </a:solidFill>
                <a:latin typeface="Times New Roman Tj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    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Коркард ва мавриди  </a:t>
            </a:r>
            <a:r>
              <a:rPr b="1" i="1" lang="tt-RU" sz="2400" spc="-1" strike="noStrike">
                <a:solidFill>
                  <a:srgbClr val="000066"/>
                </a:solidFill>
                <a:latin typeface="Times New Roman Tj"/>
              </a:rPr>
              <a:t>амал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 Tj"/>
              </a:rPr>
              <a:t>ќ</a:t>
            </a:r>
            <a:r>
              <a:rPr b="1" i="1" lang="tt-RU" sz="2400" spc="-1" strike="noStrike">
                <a:solidFill>
                  <a:srgbClr val="000066"/>
                </a:solidFill>
                <a:latin typeface="Times New Roman Tj"/>
              </a:rPr>
              <a:t>арор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 додани протокол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ои ташхисию табобат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ї</a:t>
            </a:r>
            <a:r>
              <a:rPr b="1" i="1" lang="tt-RU" sz="2400" spc="-1" strike="noStrike">
                <a:solidFill>
                  <a:srgbClr val="24057b"/>
                </a:solidFill>
                <a:latin typeface="Times New Roman Tj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37339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4617b"/>
              </a:buClr>
              <a:buFont typeface="Times New Roman Tj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-1942920" y="4000320"/>
            <a:ext cx="472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imes New Roman Tj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 Tj"/>
              </a:rPr>
              <a:t>Дастовардњо дар самти хизматрасонињои тиббї: </a:t>
            </a:r>
            <a:br>
              <a:rPr sz="3200"/>
            </a:br>
            <a:r>
              <a:rPr b="1" i="1" lang="ru-RU" sz="3200" spc="-1" strike="noStrike">
                <a:solidFill>
                  <a:srgbClr val="04617b"/>
                </a:solidFill>
                <a:latin typeface="Times New Roman Tj"/>
              </a:rPr>
              <a:t>баланд бардоштани наќши бахши хусус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0574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 Tj"/>
              </a:rPr>
              <a:t>Шумораи муассисањои</a:t>
            </a:r>
            <a:br>
              <a:rPr sz="2400"/>
            </a:br>
            <a:r>
              <a:rPr b="1" i="1" lang="ru-RU" sz="2400" spc="-1" strike="noStrike">
                <a:solidFill>
                  <a:srgbClr val="04617b"/>
                </a:solidFill>
                <a:latin typeface="Times New Roman Tj"/>
              </a:rPr>
              <a:t> хусусии тиббї</a:t>
            </a:r>
            <a:r>
              <a:rPr b="1" i="1" lang="ru-RU" sz="2900" spc="-1" strike="noStrike">
                <a:solidFill>
                  <a:srgbClr val="04617b"/>
                </a:solidFill>
                <a:latin typeface="Times New Roman Tj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80880" y="2666880"/>
          <a:ext cx="4267440" cy="381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666880"/>
                    <a:ext cx="42674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267080" y="1981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 Tj"/>
              </a:rPr>
              <a:t>Шумораи мурољиат ба муассисањои хусусии тибб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2666880"/>
          <a:ext cx="4230720" cy="377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666880"/>
                    <a:ext cx="423072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57b"/>
                </a:solidFill>
                <a:latin typeface="Times New Roman Tj"/>
              </a:rPr>
              <a:t>Мушкилот дар њифзи солимии ањолї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447920"/>
            <a:ext cx="8915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41120" indent="-141120">
              <a:lnSpc>
                <a:spcPct val="9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 Tj"/>
              </a:rPr>
              <a:t>Нокифоягии  маблаѓњо</a:t>
            </a:r>
            <a:r>
              <a:rPr b="1" lang="ru-RU" sz="2400" spc="-1" strike="noStrike">
                <a:solidFill>
                  <a:srgbClr val="0f6fc6"/>
                </a:solidFill>
                <a:latin typeface="Times New Roman Tj"/>
              </a:rPr>
              <a:t> 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 Tj"/>
              </a:rPr>
              <a:t>барои  Барномаи кафолатњои давлатї, модернизатсияи муассисањои тандурустї, суѓуртаи тиббї, технологияи  муосири ташхису табоба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 Tj"/>
              </a:rPr>
              <a:t>норасоии мутахассисони варзида дар баъзе муассисањои тиббї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 Tj"/>
              </a:rPr>
              <a:t>Хурўљи беморињои</a:t>
            </a:r>
            <a:r>
              <a:rPr b="1" lang="ru-RU" sz="2400" spc="-1" strike="noStrike">
                <a:solidFill>
                  <a:srgbClr val="0f6fc6"/>
                </a:solidFill>
                <a:latin typeface="Times New Roman Tj"/>
              </a:rPr>
              <a:t> 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 Tj"/>
              </a:rPr>
              <a:t>хусусияти  иљтимої дошта             (сил, диабети канд</a:t>
            </a:r>
            <a:r>
              <a:rPr b="1" i="1" lang="ru-RU" sz="2400" spc="-1" strike="noStrike">
                <a:solidFill>
                  <a:srgbClr val="0f6fc6"/>
                </a:solidFill>
                <a:latin typeface="Times New Roman Tj"/>
              </a:rPr>
              <a:t>, 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 Tj"/>
              </a:rPr>
              <a:t>ВИЧ/СПИ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4057b"/>
                </a:solidFill>
                <a:latin typeface="Times New Roman Tj"/>
              </a:rPr>
              <a:t>Ќадамњои минбаъда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295280"/>
            <a:ext cx="899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90360" indent="-90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 Tj"/>
              </a:rPr>
              <a:t>Пурзўр намудани системаи идоракунии тандурусти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 Tj"/>
              </a:rPr>
              <a:t>тавассути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 ворид намудани системаи мониторинг ва бањодињии Стратегияи миллии солимии ањолии ЉТ </a:t>
            </a:r>
            <a:r>
              <a:rPr b="1" i="1" lang="tg-Cyrl-TJ" sz="2400" spc="-1" strike="noStrike">
                <a:solidFill>
                  <a:srgbClr val="24057b"/>
                </a:solidFill>
                <a:latin typeface="Times New Roman Tj"/>
              </a:rPr>
              <a:t>дар  солњои 2010-2020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Васеъ намудани доираи исло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от дар системаи  маблаѓгузории со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а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бо роњи гузариш ба маблаѓгузории сарикас</a:t>
            </a: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ї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 дар муассисањои КАТС ва пардохти арзиши хизматрасонињои тиббии сохтори госпиталї ба њолатњои табобатш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Баланд бардоштани дастрасии</a:t>
            </a: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 а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олї ба хизматрасони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њ</a:t>
            </a: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ои тиббї 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бо роњи пур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ў</a:t>
            </a:r>
            <a:r>
              <a:rPr b="1" i="1" lang="ru-RU" sz="2400" spc="-1" strike="noStrike">
                <a:solidFill>
                  <a:srgbClr val="24057b"/>
                </a:solidFill>
                <a:latin typeface="Times New Roman Tj"/>
              </a:rPr>
              <a:t>р намудани муассисањои  кўмаки аввалияи тиббию санитарї ва рушди тибби оилав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Таљдид ва такмили муассисањои тибб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57b"/>
                </a:solidFill>
                <a:latin typeface="Times New Roman Tj"/>
              </a:rPr>
              <a:t>Бо таври васеъ ба роњ мондани истифодаи усулњои муосири ташхис ва табоб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057b"/>
                </a:solidFill>
                <a:latin typeface="Times New Roman Tj"/>
              </a:rPr>
              <a:t>	</a:t>
            </a:r>
            <a:r>
              <a:rPr b="1" lang="ru-RU" sz="2000" spc="-1" strike="noStrike">
                <a:solidFill>
                  <a:srgbClr val="24057b"/>
                </a:solidFill>
                <a:latin typeface="Times New Roman Tj"/>
              </a:rPr>
              <a:t>	</a:t>
            </a:r>
            <a:r>
              <a:rPr b="1" lang="ru-RU" sz="2000" spc="-1" strike="noStrike">
                <a:solidFill>
                  <a:srgbClr val="24057b"/>
                </a:solidFill>
                <a:latin typeface="Times New Roman Tj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Раванди бе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тар гардидани сат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и зиндагї дар самти шугл ва 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ифзи и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љ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тимоии а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олї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Дастовардњо дар соњаи  мењ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дар доира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Стратегияи миллии рушд ва Стратегияи паст кардани сатњи камбизоатї 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санадњои меъёрї ба тасвиб расида, таљдиди сохтори њифзи иљтимої гузаронида шуд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музди миёнаи мењнати кормандон 2,3 маротиба афзуд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њисоботи тањлилии «Сиёсати мењнат дар Тољикистон» омода гардид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барои кормандони ВМЊИА ва сохторњои он дар соњаи шуѓл, тањияи сиёсат ва пешбурди он, семинарњои омузишї гузаронида шуд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сомонањои махсуси интернетї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 Tj"/>
                <a:hlinkClick r:id="rId2"/>
              </a:rPr>
              <a:t>www.labour.tj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 Tj"/>
              </a:rPr>
              <a:t>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 Tj"/>
                <a:hlinkClick r:id="rId3"/>
              </a:rPr>
              <a:t>www.mintrud.tj</a:t>
            </a:r>
            <a:r>
              <a:rPr b="0" lang="en-US" sz="2400" spc="-1" strike="noStrike">
                <a:solidFill>
                  <a:srgbClr val="000000"/>
                </a:solidFill>
                <a:latin typeface="Times New Roman Tj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ид ба масоили мењнат таъсис дода шу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Дастовардњо дар соњаи њифзи иљтимоии ањолї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2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атњи камбизоатї  аз 72,4 фоизи соли 2003 дар соли 2007 ба 53,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фоиз ва дар соли 2009 то 46,7 фоиз коњиш ёф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 Tj"/>
              </a:rPr>
              <a:t>њадди аќали нафаќа аз рўи синну сол 4 маротиба, андозаи миёнаи нафаќа 2,8 маротиба  баланд бардошта шуд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озомўзии кормандони иљтимої гузаронида шуд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узди мењнати кормандон дар муассиса</a:t>
            </a:r>
            <a:r>
              <a:rPr b="0" lang="tg-Cyrl-TJ" sz="20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статсионарї  баланд бардошта шуд ва бастњои нави иловагии корї ворид гардид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њашт маркази будубоши рўзона оид ба хизматрасонї дар љои истиќомат барои кўдакон, пиронсолон ва маъюбон таъсис ва мавриди истифода ќарор дода шуд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ар сохтори ВМЊИА ЉТ шўъбаи хизматрасонии иљтимої, њифзи иљтимоии оила ва кўдак ташкил карда шуд</a:t>
            </a:r>
            <a:r>
              <a:rPr b="0" lang="en-US" sz="2000" spc="-1" strike="noStrike">
                <a:solidFill>
                  <a:srgbClr val="000000"/>
                </a:solidFill>
                <a:latin typeface="Times New Roman Tj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Монеа ва душворињо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066680"/>
            <a:ext cx="838188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Tj"/>
              </a:rPr>
              <a:t>раќобатпазир набудани захирањои мењнатї дар бозори мехна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Tj"/>
              </a:rPr>
              <a:t>Номукаммалии механизми самараноки таъмини њифзи иљтимоии  муњољирони мењнатї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Tj"/>
              </a:rPr>
              <a:t>Мавчуд набудани заминаи мусоид чихати ташкилу рушди инфраструктураи алтернативии хизматрасонињои иљтимої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Ќ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да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и оянда б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ри баланд бардоштани сат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зиндагї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баланд бардоштани сатњи шуѓлнокї тавассути васеъ намудани доир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хизматрасонї дар бозори мењна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рушди потенсиали касби кормандони 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 Tj"/>
              </a:rPr>
              <a:t>ќ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омоти шуѓли ањоли дар танзими сиёсати шуѓл, тањияи он ва банаќшагирии молиявї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Tj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такмил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 Tj"/>
              </a:rPr>
              <a:t>ќ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онунгузори  дар самти паст намудани дараљаи шуѓли ѓайрирасмї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такмил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 Tj"/>
              </a:rPr>
              <a:t>ќ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онунг</a:t>
            </a:r>
            <a:r>
              <a:rPr b="0" lang="ru-RU" sz="1700" spc="-1" strike="noStrike">
                <a:solidFill>
                  <a:srgbClr val="000000"/>
                </a:solidFill>
                <a:latin typeface="Times New Roman Tj"/>
              </a:rPr>
              <a:t>ќ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узори дар самти воридшавии ихтиёрии муњољирони мењнатї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ба системаи суѓуртаи иљтимої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зиёд намудани музди ме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нат ва паст намудани номутаносибии сат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и музд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ме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на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ислоњоти  соњаи  суѓуртаи иљтимоии давлатї  ва таъминоти нафа</a:t>
            </a:r>
            <a:r>
              <a:rPr b="0" lang="ru-RU" sz="1700" spc="-1" strike="noStrike">
                <a:solidFill>
                  <a:srgbClr val="000000"/>
                </a:solidFill>
                <a:latin typeface="Times New Roman Tj"/>
              </a:rPr>
              <a:t>ќ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а, такмил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сохтори идоракунии   њифзи иљтимоии ањолї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такмили   механизми љалб намудани  манбањои  иловагии молияв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ѓайрибучавї  љи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ати  дастгирии  иљтимоии ањолї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љори намудани кўмаки  иљтимоию унвонї (пардохт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ои иљтимої 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хизматрасонии иљтимої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 Tj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чор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ї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намудани усули пардохти нафаќаю кўмакпулихо таввасути корт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ои бонкї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бењтар намудани сифати  ташхиси тиббию иљтимоии маъюбон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- рушди  хизматрасонии иљтимоии  оила, ва кўдак, пиронсолон, маъюбон,   такмили   хизматрасонии  тиббию иљтимої  љи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ати  дастгир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шахсони имконияташон ма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дуд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~PP3868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Tj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Фарогирии пурраи кўдакон ба тањсилоти ибтидої дар муассисањои тањсилоти миёнаи умумї ва таъмини шароит барои қонеъгардонии эҳтиё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љ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ти шаҳрвандон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љ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меа ва бозори меҳнат ба таҳсилоти босифат бо роҳ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таъсиси механизмҳои нави институтсионалии танзим дар соҳаи маори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 Tj"/>
              </a:rPr>
              <a:t>(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 Tj"/>
              </a:rPr>
              <a:t>СМР/СПСК, БАРНОМАИ ДАВЛАТИИ РУШДИ МАОРИФИ ҶУМҲУРИИ ТОҶИКИСТОН  БАРОИ СОЛҲОИ 2010–2015)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Дастовардњои соњаи маориф ва дурнамо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рушди соњ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 </a:t>
            </a:r>
            <a:br>
              <a:rPr sz="32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Стратегияи рушди с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ҳ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аи маориф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Фарогирии кўдакони синни 7-15 сола, аз љумла духтарон нисбат ба соли 2007 10% афзуда, ба 95% (духтарон-87%) баробар шу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Маблаѓгузории соња нисбат ба соли 2007 зиёда аз 2 маротиба афзуда, ба 19 % Буљети давлатї баробар шу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Маблаѓгузории сарикасї дар тамоми муассисањои тањсилоти умумї љорї карда шуд, ки самаранокии истифодабарии маблаѓ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соњаро баланд бардошта, мустакилияти молиявии муассисахои таълимиро таъмин наму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тбиќи намудани низоми кредитии таълим бо маќсади мутобиќ гардидан ба стандартњои байналмилалии тањсилот дар муассисањои тањсилоти олии касбї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ъсис ёфтани Маркази миллии тестї в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Маркази Барномањои байналмилалї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Дастовард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ои со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аи маориф дар давоми сол</a:t>
            </a:r>
            <a:r>
              <a:rPr b="1" i="1" lang="tg-Cyrl-TJ" sz="24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ои 2007-2010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1219320"/>
          <a:ext cx="8229600" cy="5592600"/>
        </p:xfrm>
        <a:graphic>
          <a:graphicData uri="http://schemas.openxmlformats.org/drawingml/2006/table">
            <a:tbl>
              <a:tblPr/>
              <a:tblGrid>
                <a:gridCol w="399960"/>
                <a:gridCol w="2857680"/>
                <a:gridCol w="857160"/>
                <a:gridCol w="1371600"/>
                <a:gridCol w="1371600"/>
                <a:gridCol w="1371600"/>
              </a:tblGrid>
              <a:tr h="981000">
                <a:tc>
                  <a:txBody>
                    <a:bodyPr lIns="48240" rIns="4824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8240" rIns="4824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Нишонди</a:t>
                      </a:r>
                      <a:r>
                        <a:rPr b="1" lang="tg-Cyrl-TJ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х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ан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8240" rIns="4824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Во</a:t>
                      </a:r>
                      <a:r>
                        <a:rPr b="1" lang="tg-Cyrl-TJ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х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иди чена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8240" rIns="4824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Соли тахсили  2007/200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8240" rIns="4824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Соли та</a:t>
                      </a:r>
                      <a:r>
                        <a:rPr b="1" lang="tg-Cyrl-TJ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х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с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2008/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8240" rIns="4824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Соли та</a:t>
                      </a:r>
                      <a:r>
                        <a:rPr b="1" lang="tg-Cyrl-TJ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х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с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 Tj"/>
                          <a:ea typeface="Calibri"/>
                        </a:rPr>
                        <a:t>2009/ 20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50880"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8240" rIns="482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Афзоиши шумораи муассиса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ои тахсилоти умумии гайридавлат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Ада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69840"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8240" rIns="482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Афзоиши шумораи донишчўён дар муассисахои тахсилоти ибтидои, миёна ва олии касб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 Tj"/>
                        </a:rPr>
                        <a:t>њ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азор наф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09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12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4440" rIns="64440" tIns="4320" bIns="32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18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Сохтмони мактаб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ад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1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-аз чумла, чойи ниш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</a:rPr>
                        <a:t>љ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5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39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Times New Roman"/>
                        </a:rPr>
                        <a:t>3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Чопи китоб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ои дарс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номг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- мик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нус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 491 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1 806 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1 022 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Харидории мизу курсии талабаги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(ба таври марказикунонидашуд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</a:rPr>
                        <a:t>љ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уф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23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4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 Tj"/>
                          <a:ea typeface="Calibri"/>
                        </a:rPr>
                        <a:t>3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Дастовардњо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нокифоягии пояи моддиву техникии муассисахои таълим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пурра таъмин набудани љараёни таълим бо васоити техникию технологї, аз љумла тахтањои электронї ва китобхонањои электронї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иштироки камсамари сектори хусусї дар хизматрасонии таълимї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то андозаи норасоии омўзгорон аз фанњои алоњи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мушкилот дар омода кардани кадрњои илмию омўзгории муассисањои тањсилоти олии касбї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Мушкилот</a:t>
            </a:r>
            <a:r>
              <a:rPr b="1" i="1" lang="tg-Cyrl-TJ" sz="2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ои со</a:t>
            </a:r>
            <a:r>
              <a:rPr b="1" i="1" lang="tg-Cyrl-TJ" sz="2800" spc="-1" strike="noStrike">
                <a:solidFill>
                  <a:srgbClr val="000000"/>
                </a:solidFill>
                <a:latin typeface="Times New Roman Tj"/>
              </a:rPr>
              <a:t>њ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3T03:20:20Z</dcterms:modified>
  <cp:revision>324</cp:revision>
  <dc:subject/>
  <dc:title>Целью политики в сфере повышения доходов населения  республики  является неуклонный рост материального благополучия населения, уровня потребления товаров и услуг. </dc:title>
</cp:coreProperties>
</file>