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E273FA-EB69-49AF-82F6-767E96C8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A6FCE9-65D7-45CF-BE96-8C1F94C05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253FAF-8D02-4545-AB8E-EC39094437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21AD-A210-46AF-A130-35C900615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D6A62B-7BE3-48E7-A74F-38BFCE927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6E09CB-E8D1-416D-81EA-36A681CCC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341A57-3910-4CF5-8831-5FFD38C26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A211D7-171F-443F-82B0-DE9718B30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DCA0F7-8C64-4FFC-AD65-65D5C786E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44CF20-0B06-4DB0-93AE-B30395A58D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58150-E3EC-4315-927F-D2017C7A5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progres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C Secretari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donor coordination in support to Agricultural Reform, Health Strategy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t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ply and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tation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anci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t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FM, B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ess Clim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rans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initi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C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B/EU MoU on Social Prot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 Review 2010 in Educ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Joint Program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Missions: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B-ADB Joint Country Portfolio Performance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level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GP supported by DFID, GTZ/BMZ, UNDP and IOM</a:t>
            </a:r>
            <a:br>
              <a:rPr sz="900"/>
            </a:br>
            <a:r>
              <a:rPr b="0" lang="en-US" sz="9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nd number of initiatives is grow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examples of JCPS Partner efforts to improve aid coordination and effectiveness, include (from GTZ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ing up – GTZ/BMZ scaled up SME promotion, vocational education and training, micro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partner missions - DfID, GTZ/BMZ, UNDP, IOM under Rural Growth Program; FTI Review 2010 jointly: GTZ, WB, EU, UICEF, USAID, A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87B60F-9AFE-4EBD-A5E5-49E48A232F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207-A9B8-4C6C-93DC-374B366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152-A760-4D1E-98E6-5191236C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039-A89D-4773-9CB9-BCA3AD4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BD2-BC9C-4E1A-9926-8384A6A9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8319-EBCC-41BA-903C-24135FC6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433-D5DD-4205-8F1D-DA649C9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AAE-ECE7-4183-B896-80DB3B7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47C-B862-444E-ADB4-FC580DA8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2355-94E8-47EA-B089-FF8567C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BCC-2B05-46FC-B50C-6EF43376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2381-E847-45AA-8C22-6B3E42F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009-B417-4D12-B51F-31683DE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9D56-2A5F-47FF-936A-C104BE4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0A40-2635-4A6C-9F54-52D389FE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843C-D063-4B10-A882-0BE1262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DE77-CF30-4723-946A-7F545C2E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BDE-7B44-439D-BBA3-DF2979B0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8F99-DC9E-4A11-AFB2-B38ACF57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69DF-E9F6-4761-9345-6F95EE3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8ABC-7223-4D7C-9A20-8AF3A08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CE6E-2F78-4A5C-85D0-C867528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7324-CB54-450F-BE8E-01680F7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574-BF37-4032-BB07-493EFDC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FBB9-809E-4A22-8424-1EC3629C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3CF7-9544-4931-B3CD-9840012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39BE-CF3C-4707-B53B-821B85D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59AC-3A21-4F98-B682-4881C0E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78AF-B6F5-4D97-A0A5-0744843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C2ED-AA45-4E56-9E39-6D95254A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2150-F1D9-4262-A599-9F91E226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015-8635-4163-9940-1480962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2FB-4DD0-476D-96EF-F5921BDB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87C-E11C-4D14-9F66-7F533BD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9ED-841B-49C4-A7F4-21E053E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734-0ABA-4409-9236-04F0163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E1F-23D8-48EC-AC92-6518F7D2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/11/2010 6:51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953-1257-4421-95E2-2E4B4B8E2C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0/11/2010 6:51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0 Development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8DD-2318-4AD6-931C-C6364E80C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/11/2010 6:51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483F-1A18-4F55-BA51-C57805CA1A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19080" y="3828960"/>
            <a:ext cx="916308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3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97240"/>
            <a:ext cx="777240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и ҷумҳуриявӣ оид ба ҳамкории муштарак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tg-Cyrl-TJ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овард ва дурнам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91080" y="4781520"/>
            <a:ext cx="432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ърӯзаи ШҲ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ислав Врбенск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tg-Cyrl-TJ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С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уми руш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4</a:t>
            </a:r>
            <a:r>
              <a:rPr b="0" lang="tg-Cyrl-TJ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кабри соли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 - </a:t>
            </a:r>
            <a:r>
              <a:rPr b="0" lang="tg-Cyrl-TJ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шанб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tg-Cyrl-TJ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ҷикист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ш аз паҳн кардан санҷида шава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02ED-B15D-443E-8698-DA65DE996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сипҳо барои оя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Ҳукумат ҳамчун пешбарандаи лоиҳа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ҳтар намудани ҳамоҳангсозии банақшагирӣ/маблағгузории ҳукумат ва ӯҳдадориҳои шарикони рушд оид ба кӯмаки молиявию техникӣ ва давраи маблағҷудокунии онҳо бо мақсади бартараф намудани фарқияти байни СМР, СПКСК, афзалиятҳои Стратегияҳои сохторӣ ва маблағҳои ҷудошав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штар истифода бурдани муносибатҳои бар барнома асосёфта ва/ё сохторӣ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WA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 кардани хароҷоти интиқоли маблағ ҳам барои ҳукумат ва ҳам шарикони руш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д бардоштани нерӯи кишвар, то кишвар тавонад худаш лоиҳаҳоро пеш бар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лама ва ҳамкории мунтазам ва дорои сохтори муайян байни ҳукумат ва шарикони руш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6A30-9D6A-4DF3-8C2F-2B26CB01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залиятҳои асоси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3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қшаи амалиёти Форуми рушд барои амалӣ намудани ӯҳдадориҳои якҷояи ҲҶТ ва шарикони СҶҲМ замина фароҳам меор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заронидани ҷаласаҳои муштараки ҲҶТ ва ШҲД ҳар се моҳ як маротиба,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 ҳангоми зарурат, баррасӣ намудани ҳисоботҳои семоҳа оид ба пешравӣ ҷиҳати амалисозии Нақшаи амалиёти Форуми руш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айян намудани барномаи кории ШҲД/СҶҲМ ҷиҳати беҳтар намудани ҳамоҳангсозии кӯмаки беруна ва таъмини самаранокии он, аз ҷум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ёд намудани шумораи аъзо/шарикони ШҲД/СҶҲМ,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тамоми шарикони рушди нав ва мунтазам кӯмаккардаистода дохил карда шаван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ъмини маблағгузории устувори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ъолияти котиботи ШҲД пас аз моҳи августи соли 20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и пешравии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ӯҳҳои сохторӣ дар се моҳ як маротиб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ӯози муколамаи мунтазами ШҲД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ташкилотҳои ғайридавлатии байналхалқӣ ва маҳаллӣ – мисол, дар се моҳ як маротиба</a:t>
            </a: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зёбии таъсири СҶҲМ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tg-Cyrl-TJ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 ҳамбастагӣ бо ҷараёни мониторинги Эъломияи Париж аз моҳи декабри соли 20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EE7-7389-417B-9966-717D0968E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AB8F38-5421-49E9-BD05-26E089A269EA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74B-ADFA-4FBB-BA79-850E8BD52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ёни маър</a:t>
            </a:r>
            <a:r>
              <a:rPr b="0" lang="tg-Cyrl-TJ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ӯ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Рахмат ба ди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</a:rPr>
              <a:t>ққ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атат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CA9B-E9B9-4006-8379-41825653B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Ҳуҷҷатҳои стратег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Diagram 2" descr=""/>
          <p:cNvPicPr/>
          <p:nvPr/>
        </p:nvPicPr>
        <p:blipFill>
          <a:blip r:embed="rId1"/>
          <a:stretch/>
        </p:blipFill>
        <p:spPr>
          <a:xfrm>
            <a:off x="743040" y="1457280"/>
            <a:ext cx="746280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710-BDD7-4D23-909C-A0DAC11FE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ълумоти воқе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и ҷумҳуриявӣ оид ба ҳамкории муштарак (СҶҲМ) натиҷаи бевоситаи Форуми рушди пешина (моҳи июни соли 2010) мебош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ҶҲ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ҳамчун мутаҳаррики чораҳо ҷиҳати ҳамоҳангсозии кӯмаки дохилӣ ва алоқаманд намудани он бо ҳуҷҷатҳо оид ба самаранокии кӯмаки беруна дар сатҳи глобалӣ (Эъломияи Париж – 2005, Нақшаи амалиёти Аккра - 2008) таҳия гардида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 ҷониби намояндагони ҳукумат ва сарони гурӯҳи асосии ташкилотҳои кӯмакрасон таҳия гардида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 асоси таҳлилҳои пешак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Ҳисоботи сохтории Вазорати Британияи Кабир оид ба рушди байналхалқӣ “Мутаҳаррикҳои дигаргунсозӣ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ра таҳия шуда, санаи дуюми ноябри соли 2009 аз ҷониби Ҳукумат ва намояндагони дувоздаҳ шарикони рушд имзо гардидаас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ҲД тамоми шарикони рушди Тоҷикистон, чи нав ва чи шарикони мунтазам кӯмаккардаистодаро самимона таклиф мекунад, ки ба ҷараёни амалисозии СҶҲМ ҳамроҳ шаван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7DE-AB3C-4D25-8D22-BB631ECB0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ълумоти воқеӣ ва ҷараёни амалисозии СҶҲ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ълумот оид ба кишв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и рушди Ҷумҳурии Тоҷики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анокии кӯмаки беруна ва ҳамоҳангсозии 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залияҳои шарикони СҶҲ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залиятҳо ҷиҳати беҳтар кардани мувофиқасоз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сипҳои умумии самаранокии кӯмаки бер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269-E3EF-48CA-8041-A1E7A9D4E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қсад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и яг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ъне Стратегияи миллии рушди Ҷумҳурии Тоҷикистон барои солҳои 2008 -15 ва ҳуҷҷати ба он дахлдор - Стратегияи сеюми паст кардани сатҳи камбизоатӣ барои солҳои 2010-2012 (СПКСК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и ягонаи ҳамоҳангсоз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ъ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ӯрои ҳамоҳангсозии донор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Ҳ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 номи шарикони рушд бо Кумитаи давлатии сармоягузорӣ ва идораи амволи давлатӣ (КДСИАД) – аз номи Ҳукумат ва дигар вазорату мақомоти дахлдор  ҳамкорӣ мекун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и ягонаи мониторинг ва арзёбӣ ва натиҷа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g-Cyrl-TJ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 СПКСК – 3 алоқаманд карда шуда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4F31-553E-41F0-8A12-9D0B31A55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они СҶҲ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ояндагии Фонди Оғо-хон дар ҷумҳурии Тоҷикист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ки Рушди Оси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ки Аврупо оид ба таҷдид ва руш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и Авру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мон (Герм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мони амният ва ҳамкорӣ дар Аврупо, Бюро Ҷумҳурии Тоҷикист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ии Шветсия оид ба ҳамкорӣ баҳри рушди байналхалқ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фтари Швейтсария оид ба ҳамкор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Ҳ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ШҲ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Ҳукумати Ҷумҳурии Тоҷикист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рати Британияи Кабир оид ба рушди байналхалқ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торҳои Созмони Милали Муттаҳ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ии ШМА оид ба рушди байналхалқ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ӯҳи ташкилотҳои Бонки умумиҷаҳон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1948-639B-46E6-915C-6800A395A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Ӯҳдадориҳои шарикони СҶҲ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щ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9" name="Group 51"/>
          <p:cNvGrpSpPr/>
          <p:nvPr/>
        </p:nvGrpSpPr>
        <p:grpSpPr>
          <a:xfrm>
            <a:off x="604800" y="1719360"/>
            <a:ext cx="7927920" cy="4530600"/>
            <a:chOff x="604800" y="1719360"/>
            <a:chExt cx="7927920" cy="4530600"/>
          </a:xfrm>
        </p:grpSpPr>
        <p:grpSp>
          <p:nvGrpSpPr>
            <p:cNvPr id="170" name="Group 50"/>
            <p:cNvGrpSpPr/>
            <p:nvPr/>
          </p:nvGrpSpPr>
          <p:grpSpPr>
            <a:xfrm>
              <a:off x="604800" y="1719360"/>
              <a:ext cx="7927920" cy="4530600"/>
              <a:chOff x="604800" y="1719360"/>
              <a:chExt cx="7927920" cy="4530600"/>
            </a:xfrm>
          </p:grpSpPr>
          <p:sp>
            <p:nvSpPr>
              <p:cNvPr id="171" name="Rectangle 36"/>
              <p:cNvSpPr/>
              <p:nvPr/>
            </p:nvSpPr>
            <p:spPr>
              <a:xfrm>
                <a:off x="604800" y="1719360"/>
                <a:ext cx="6931080" cy="83484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2" name="Rectangle 37"/>
              <p:cNvSpPr/>
              <p:nvPr/>
            </p:nvSpPr>
            <p:spPr>
              <a:xfrm>
                <a:off x="7535880" y="1719360"/>
                <a:ext cx="996840" cy="83484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604800" y="2554200"/>
                <a:ext cx="6931080" cy="142056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>
                <a:off x="7535880" y="2554200"/>
                <a:ext cx="996840" cy="142056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5" name="Rectangle 48"/>
              <p:cNvSpPr/>
              <p:nvPr/>
            </p:nvSpPr>
            <p:spPr>
              <a:xfrm>
                <a:off x="604800" y="3981600"/>
                <a:ext cx="6931080" cy="12031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Rectangle 49"/>
              <p:cNvSpPr/>
              <p:nvPr/>
            </p:nvSpPr>
            <p:spPr>
              <a:xfrm>
                <a:off x="7535880" y="3981600"/>
                <a:ext cx="996840" cy="120312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7" name="Rectangle 52"/>
              <p:cNvSpPr/>
              <p:nvPr/>
            </p:nvSpPr>
            <p:spPr>
              <a:xfrm>
                <a:off x="604800" y="5195880"/>
                <a:ext cx="6931080" cy="10429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8" name="Rectangle 53"/>
              <p:cNvSpPr/>
              <p:nvPr/>
            </p:nvSpPr>
            <p:spPr>
              <a:xfrm>
                <a:off x="7535880" y="5195880"/>
                <a:ext cx="996840" cy="105408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9" name="Rektangel 109"/>
            <p:cNvSpPr/>
            <p:nvPr/>
          </p:nvSpPr>
          <p:spPr>
            <a:xfrm>
              <a:off x="1083960" y="1733400"/>
              <a:ext cx="4960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Муайян намудан/нав кардани рӯзнома ва барномаи кории ШҲД барои солҳои 2009-10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,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 аз ҷумла тақсими ӯҳда-дориҳо оид ба чораҳои дар доираи СҶҲМ дидашаванда </a:t>
              </a:r>
              <a:endParaRPr b="0" lang="en-US" sz="15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Rektangel 109"/>
            <p:cNvSpPr/>
            <p:nvPr/>
          </p:nvSpPr>
          <p:spPr>
            <a:xfrm>
              <a:off x="1083960" y="2665440"/>
              <a:ext cx="5078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Ҷоннок намудани гурӯҳҳои кории тематикии мавҷудаи ШҲД ва таӯъир додани гурӯҳҳои нави дорои вазифа, барнома ва графики кории  мувофиқашудаи бо мақсад-ҳои стратегии тематикӣ/сохтории ба СПКСК дахлдор ҳамбаста кардашуда бо муқаррароти ҳисоботи давравӣ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Rektangel 109"/>
            <p:cNvSpPr/>
            <p:nvPr/>
          </p:nvSpPr>
          <p:spPr>
            <a:xfrm>
              <a:off x="1083960" y="4010040"/>
              <a:ext cx="475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Давом додан/оғоз кардани муколамаи ШҲД бо шарикони нави рушд, мисол Хитой, Эрон, БИР, Қазоқистон, Фонди Қувейт, Русия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, </a:t>
              </a:r>
              <a:r>
                <a:rPr b="0" lang="tg-Cyrl-TJ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ва таклиш наму-дани онҳо баро иштирок дар фаъолияти ШҲД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, ва ғ.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Rektangel 109"/>
            <p:cNvSpPr/>
            <p:nvPr/>
          </p:nvSpPr>
          <p:spPr>
            <a:xfrm>
              <a:off x="1083960" y="5181840"/>
              <a:ext cx="47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Таъсиси котиботи доимии ШҲД, аз ҷумла таъмини маблағгузории он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3" name="TextBox 29"/>
          <p:cNvSpPr/>
          <p:nvPr/>
        </p:nvSpPr>
        <p:spPr>
          <a:xfrm>
            <a:off x="6167520" y="19368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g-Cyrl-TJ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Ян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6195960" y="30574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g-Cyrl-TJ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Давомно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Box 30"/>
          <p:cNvSpPr/>
          <p:nvPr/>
        </p:nvSpPr>
        <p:spPr>
          <a:xfrm>
            <a:off x="6210360" y="44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g-Cyrl-TJ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Давомно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6113520" y="545148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g-Cyrl-TJ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Сен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Freeform 150"/>
          <p:cNvGrpSpPr/>
          <p:nvPr/>
        </p:nvGrpSpPr>
        <p:grpSpPr>
          <a:xfrm>
            <a:off x="7748640" y="1841400"/>
            <a:ext cx="487440" cy="590760"/>
            <a:chOff x="7748640" y="1841400"/>
            <a:chExt cx="487440" cy="590760"/>
          </a:xfrm>
        </p:grpSpPr>
        <p:pic>
          <p:nvPicPr>
            <p:cNvPr id="188" name="Freeform 150" descr=""/>
            <p:cNvPicPr/>
            <p:nvPr/>
          </p:nvPicPr>
          <p:blipFill>
            <a:blip r:embed="rId1"/>
            <a:stretch/>
          </p:blipFill>
          <p:spPr>
            <a:xfrm>
              <a:off x="7748640" y="1841400"/>
              <a:ext cx="4874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810560" y="1874880"/>
              <a:ext cx="368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Freeform 150"/>
          <p:cNvGrpSpPr/>
          <p:nvPr/>
        </p:nvGrpSpPr>
        <p:grpSpPr>
          <a:xfrm>
            <a:off x="7785000" y="5389560"/>
            <a:ext cx="480960" cy="590400"/>
            <a:chOff x="7785000" y="5389560"/>
            <a:chExt cx="480960" cy="590400"/>
          </a:xfrm>
        </p:grpSpPr>
        <p:pic>
          <p:nvPicPr>
            <p:cNvPr id="191" name="Freeform 150" descr=""/>
            <p:cNvPicPr/>
            <p:nvPr/>
          </p:nvPicPr>
          <p:blipFill>
            <a:blip r:embed="rId2"/>
            <a:stretch/>
          </p:blipFill>
          <p:spPr>
            <a:xfrm>
              <a:off x="7785000" y="5389560"/>
              <a:ext cx="4809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845480" y="5425920"/>
              <a:ext cx="36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7932240" y="3009960"/>
            <a:ext cx="171720" cy="523800"/>
            <a:chOff x="7932240" y="3009960"/>
            <a:chExt cx="171720" cy="523800"/>
          </a:xfrm>
        </p:grpSpPr>
        <p:sp>
          <p:nvSpPr>
            <p:cNvPr id="194" name="Freeform 6"/>
            <p:cNvSpPr/>
            <p:nvPr/>
          </p:nvSpPr>
          <p:spPr>
            <a:xfrm flipH="1">
              <a:off x="7959600" y="3434040"/>
              <a:ext cx="120960" cy="99720"/>
            </a:xfrm>
            <a:custGeom>
              <a:avLst/>
              <a:gdLst>
                <a:gd name="textAreaLeft" fmla="*/ 360 w 120960"/>
                <a:gd name="textAreaRight" fmla="*/ 121680 w 1209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96" h="94">
                  <a:moveTo>
                    <a:pt x="82" y="14"/>
                  </a:moveTo>
                  <a:lnTo>
                    <a:pt x="82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2" y="86"/>
                  </a:lnTo>
                  <a:lnTo>
                    <a:pt x="30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8" y="92"/>
                  </a:lnTo>
                  <a:lnTo>
                    <a:pt x="66" y="90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8" y="72"/>
                  </a:lnTo>
                  <a:lnTo>
                    <a:pt x="92" y="64"/>
                  </a:lnTo>
                  <a:lnTo>
                    <a:pt x="94" y="5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4" y="38"/>
                  </a:lnTo>
                  <a:lnTo>
                    <a:pt x="92" y="28"/>
                  </a:lnTo>
                  <a:lnTo>
                    <a:pt x="88" y="20"/>
                  </a:lnTo>
                  <a:lnTo>
                    <a:pt x="82" y="14"/>
                  </a:lnTo>
                  <a:lnTo>
                    <a:pt x="82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 flipH="1">
              <a:off x="7931880" y="3009960"/>
              <a:ext cx="171720" cy="38088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4" h="356">
                  <a:moveTo>
                    <a:pt x="44" y="356"/>
                  </a:moveTo>
                  <a:lnTo>
                    <a:pt x="86" y="356"/>
                  </a:lnTo>
                  <a:lnTo>
                    <a:pt x="86" y="356"/>
                  </a:lnTo>
                  <a:lnTo>
                    <a:pt x="100" y="262"/>
                  </a:lnTo>
                  <a:lnTo>
                    <a:pt x="116" y="164"/>
                  </a:lnTo>
                  <a:lnTo>
                    <a:pt x="116" y="164"/>
                  </a:lnTo>
                  <a:lnTo>
                    <a:pt x="128" y="84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32" y="38"/>
                  </a:lnTo>
                  <a:lnTo>
                    <a:pt x="128" y="28"/>
                  </a:lnTo>
                  <a:lnTo>
                    <a:pt x="122" y="20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04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0" y="4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0" y="20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8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32" y="262"/>
                  </a:lnTo>
                  <a:lnTo>
                    <a:pt x="44" y="356"/>
                  </a:lnTo>
                  <a:lnTo>
                    <a:pt x="44" y="35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5"/>
          <p:cNvGrpSpPr/>
          <p:nvPr/>
        </p:nvGrpSpPr>
        <p:grpSpPr>
          <a:xfrm>
            <a:off x="7932240" y="4282920"/>
            <a:ext cx="171720" cy="524160"/>
            <a:chOff x="7932240" y="4282920"/>
            <a:chExt cx="171720" cy="524160"/>
          </a:xfrm>
        </p:grpSpPr>
        <p:sp>
          <p:nvSpPr>
            <p:cNvPr id="197" name="Freeform 6"/>
            <p:cNvSpPr/>
            <p:nvPr/>
          </p:nvSpPr>
          <p:spPr>
            <a:xfrm flipH="1">
              <a:off x="7959600" y="4707000"/>
              <a:ext cx="120960" cy="100080"/>
            </a:xfrm>
            <a:custGeom>
              <a:avLst/>
              <a:gdLst>
                <a:gd name="textAreaLeft" fmla="*/ 360 w 120960"/>
                <a:gd name="textAreaRight" fmla="*/ 121680 w 120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6" h="94">
                  <a:moveTo>
                    <a:pt x="82" y="14"/>
                  </a:moveTo>
                  <a:lnTo>
                    <a:pt x="82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2" y="86"/>
                  </a:lnTo>
                  <a:lnTo>
                    <a:pt x="30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8" y="92"/>
                  </a:lnTo>
                  <a:lnTo>
                    <a:pt x="66" y="90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8" y="72"/>
                  </a:lnTo>
                  <a:lnTo>
                    <a:pt x="92" y="64"/>
                  </a:lnTo>
                  <a:lnTo>
                    <a:pt x="94" y="5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4" y="38"/>
                  </a:lnTo>
                  <a:lnTo>
                    <a:pt x="92" y="28"/>
                  </a:lnTo>
                  <a:lnTo>
                    <a:pt x="88" y="20"/>
                  </a:lnTo>
                  <a:lnTo>
                    <a:pt x="82" y="14"/>
                  </a:lnTo>
                  <a:lnTo>
                    <a:pt x="82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 flipH="1">
              <a:off x="7931880" y="4282920"/>
              <a:ext cx="171720" cy="38124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34" h="356">
                  <a:moveTo>
                    <a:pt x="44" y="356"/>
                  </a:moveTo>
                  <a:lnTo>
                    <a:pt x="86" y="356"/>
                  </a:lnTo>
                  <a:lnTo>
                    <a:pt x="86" y="356"/>
                  </a:lnTo>
                  <a:lnTo>
                    <a:pt x="100" y="262"/>
                  </a:lnTo>
                  <a:lnTo>
                    <a:pt x="116" y="164"/>
                  </a:lnTo>
                  <a:lnTo>
                    <a:pt x="116" y="164"/>
                  </a:lnTo>
                  <a:lnTo>
                    <a:pt x="128" y="84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32" y="38"/>
                  </a:lnTo>
                  <a:lnTo>
                    <a:pt x="128" y="28"/>
                  </a:lnTo>
                  <a:lnTo>
                    <a:pt x="122" y="20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04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0" y="4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0" y="20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8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32" y="262"/>
                  </a:lnTo>
                  <a:lnTo>
                    <a:pt x="44" y="356"/>
                  </a:lnTo>
                  <a:lnTo>
                    <a:pt x="44" y="35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A42-6C67-43DC-8A33-56653071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Шӯрои ҳамоҳангсозии донор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39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Соли 2007 таъсис дода шудаас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Фаъолияти он аз ҷониби раис ва ҷонишини раис роҳбарӣ карда шуда, аз ҷониби котибот дастгирӣ карда мешав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Кӯмаки молиявӣ ва моддӣ ҳоло аз ҷониби ВРББК, ШОС, АШРБ, БРСММ ва БУ расонида мешав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хема 6" descr=""/>
          <p:cNvPicPr/>
          <p:nvPr/>
        </p:nvPicPr>
        <p:blipFill>
          <a:blip r:embed="rId1"/>
          <a:srcRect l="21174" t="0" r="5775" b="0"/>
          <a:stretch/>
        </p:blipFill>
        <p:spPr>
          <a:xfrm>
            <a:off x="277920" y="-3116160"/>
            <a:ext cx="8675640" cy="1140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0/11/2010 6:51 P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898-CE45-4FFE-8293-AD1B557ED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равии ШҲД ҷиҳати нишондиҳандаҳои мониторинг</a:t>
            </a:r>
            <a:r>
              <a:rPr b="0" lang="tg-Cyrl-TJ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200" spc="-1" strike="noStrike">
                <a:solidFill>
                  <a:srgbClr val="898989"/>
                </a:solidFill>
                <a:latin typeface="Calibri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39560" y="996840"/>
          <a:ext cx="8413920" cy="5114520"/>
        </p:xfrm>
        <a:graphic>
          <a:graphicData uri="http://schemas.openxmlformats.org/drawingml/2006/table">
            <a:tbl>
              <a:tblPr/>
              <a:tblGrid>
                <a:gridCol w="4984920"/>
                <a:gridCol w="342900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Нишондиҳанда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Ҳолат дар охири сол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Додани маълумот оид ба пешгӯии маблағҳои ҷудошаванда ба ВМ ҳангоми тайёр намудани будҷети сол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%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КРМ-и ҷудошуда дар соли банақшагирифташу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Шумораи силсилаи барномаҳои бисёрсолаи шарикони СҶҲМ, ки бо Ҳукумат мувофиқа шудаа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зиёд намудани дастгирии ҳамоҳангсозшудаи буҷет аз ҷониби шарикони интихобшу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малӣ шуда истодаа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О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ВРББ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И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Олмо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ШО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СМ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ЮСАИ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интизорӣ меравад, ки БО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ФБ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У солҳои 2010-11 буҷетро дастгирӣ мекуна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Зиёд намудани шумораи муносибатҳои бар барнома асосёф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з ҷумла пешравӣ аз рӯи 4 ш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Зиёд намудани шумораи лоиҳаҳои бомуваффақият амалишу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Шумораи миссияҳои муштараки якчанд шарикони руш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зназаргузаронии пешгӯикунанд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чорабиниҳои муштарак оид ба арзёбӣ ва омӯзи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И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/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Ё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оид ба ҳифзи иҷтимоӣ имзо карда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арномаҳои муштараки СМ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зназаргузаронии амалисозии Портфели муштараки БОР/БУ барои кишва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(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АПМ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Лоиҳаи таҷрибавӣ оид ба устуворӣ ба тағъирёбии иқли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(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ЛТУ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Истифодаи ақаллан як методи идоракунии миллии молияв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Фароҳам овардани шароит барои зиёд намудани дастгирии буҷ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малӣ намудани ақаллан як Муносибати сохторӣ, ё мустақиман ба буҷет равонакунии маблағҳо барои амалӣ намудани стратегияи сохтор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Таҳти азназаргузаронӣ қарор дора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Муносибати сохторӣ дар соҳаи тандурустӣ таҳти баррасӣ қарор дора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Ӯҳдадорӣ ҷиҳати принсипҳои умумӣ ва васеътар амалӣ намудани Эъломияи Париж мувофиқи ченакҳои ТҲ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Мониторинг ва арзёбии ҳамоҳангсозшуда дар сатҳи кишвар дар асоси СПКСК -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Лоиҳа оид ба кӯмак ҷиҳати ҳамоҳангсозии самаранокии кӯмаки беруна дар сатҳи кишвар барои 2009-12 тасдиқ шудаас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(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ВРББ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ШО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АШР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 </a:t>
                      </a:r>
                      <a:r>
                        <a:rPr b="0" lang="tg-Cyrl-TJ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БРСМ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21:56Z</dcterms:created>
  <dc:creator>User</dc:creator>
  <dc:description/>
  <dc:language>en-US</dc:language>
  <cp:lastModifiedBy>TJRM Mission</cp:lastModifiedBy>
  <dcterms:modified xsi:type="dcterms:W3CDTF">2010-12-01T07:45:28Z</dcterms:modified>
  <cp:revision>227</cp:revision>
  <dc:subject/>
  <dc:title>Energy &amp;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5;#Microsoft Office PowerPoint 2007;#184;#Office 2000;#64;#PowerPoint 2003;#79;#Template 12</vt:lpwstr>
  </property>
  <property fmtid="{D5CDD505-2E9C-101B-9397-08002B2CF9AE}" pid="6" name="Approval Level">
    <vt:lpwstr/>
  </property>
  <property fmtid="{D5CDD505-2E9C-101B-9397-08002B2CF9AE}" pid="7" name="AssetId">
    <vt:lpwstr>TS001164981</vt:lpwstr>
  </property>
  <property fmtid="{D5CDD505-2E9C-101B-9397-08002B2CF9AE}" pid="8" name="AssetType">
    <vt:lpwstr>TP</vt:lpwstr>
  </property>
  <property fmtid="{D5CDD505-2E9C-101B-9397-08002B2CF9AE}" pid="9" name="Assigned To">
    <vt:lpwstr/>
  </property>
  <property fmtid="{D5CDD505-2E9C-101B-9397-08002B2CF9AE}" pid="10" name="AuthoringAssetId">
    <vt:lpwstr>TP001164981</vt:lpwstr>
  </property>
  <property fmtid="{D5CDD505-2E9C-101B-9397-08002B2CF9AE}" pid="11" name="Categories">
    <vt:lpwstr/>
  </property>
  <property fmtid="{D5CDD505-2E9C-101B-9397-08002B2CF9AE}" pid="12" name="Content Type">
    <vt:lpwstr>OOFile</vt:lpwstr>
  </property>
  <property fmtid="{D5CDD505-2E9C-101B-9397-08002B2CF9AE}" pid="13" name="ContentTypeId">
    <vt:lpwstr>0x0101006025706CF4CD034688BEBAE97A2E701D020200C3831ACA17D8814887A164412888521E</vt:lpwstr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Keywords">
    <vt:lpwstr/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71516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lides">
    <vt:lpwstr>22</vt:lpwstr>
  </property>
  <property fmtid="{D5CDD505-2E9C-101B-9397-08002B2CF9AE}" pid="27" name="SourceTitle">
    <vt:lpwstr>Training presentation: OneNote 2003—Audio and video notes</vt:lpwstr>
  </property>
  <property fmtid="{D5CDD505-2E9C-101B-9397-08002B2CF9AE}" pid="28" name="Subject">
    <vt:lpwstr/>
  </property>
  <property fmtid="{D5CDD505-2E9C-101B-9397-08002B2CF9AE}" pid="29" name="TPAppVersion">
    <vt:lpwstr>11</vt:lpwstr>
  </property>
  <property fmtid="{D5CDD505-2E9C-101B-9397-08002B2CF9AE}" pid="30" name="TPApplication">
    <vt:lpwstr>PowerPoint</vt:lpwstr>
  </property>
  <property fmtid="{D5CDD505-2E9C-101B-9397-08002B2CF9AE}" pid="31" name="TPClientViewer">
    <vt:lpwstr>Microsoft Office PowerPoint</vt:lpwstr>
  </property>
  <property fmtid="{D5CDD505-2E9C-101B-9397-08002B2CF9AE}" pid="32" name="TPCommandLine">
    <vt:lpwstr>{PP} /n {FilePath}</vt:lpwstr>
  </property>
  <property fmtid="{D5CDD505-2E9C-101B-9397-08002B2CF9AE}" pid="33" name="TPComponent">
    <vt:lpwstr>PPTFiles</vt:lpwstr>
  </property>
  <property fmtid="{D5CDD505-2E9C-101B-9397-08002B2CF9AE}" pid="34" name="TPFriendlyName">
    <vt:lpwstr>Training presentation: OneNote 2003—Audio and video notes</vt:lpwstr>
  </property>
  <property fmtid="{D5CDD505-2E9C-101B-9397-08002B2CF9AE}" pid="35" name="TPInstallLocation">
    <vt:lpwstr>{My Templates}</vt:lpwstr>
  </property>
  <property fmtid="{D5CDD505-2E9C-101B-9397-08002B2CF9AE}" pid="36" name="TPLaunchHelpLink">
    <vt:lpwstr/>
  </property>
  <property fmtid="{D5CDD505-2E9C-101B-9397-08002B2CF9AE}" pid="37" name="TPLaunchHelpLinkType">
    <vt:lpwstr>Template</vt:lpwstr>
  </property>
  <property fmtid="{D5CDD505-2E9C-101B-9397-08002B2CF9AE}" pid="38" name="TPNamespace">
    <vt:lpwstr>POWERPNT</vt:lpwstr>
  </property>
  <property fmtid="{D5CDD505-2E9C-101B-9397-08002B2CF9AE}" pid="39" name="TemplateStatus">
    <vt:lpwstr>Ready for publish</vt:lpwstr>
  </property>
  <property fmtid="{D5CDD505-2E9C-101B-9397-08002B2CF9AE}" pid="40" name="TrustLevel">
    <vt:lpwstr>Microsoft Managed Content</vt:lpwstr>
  </property>
  <property fmtid="{D5CDD505-2E9C-101B-9397-08002B2CF9AE}" pid="41" name="UACurrentWords">
    <vt:lpwstr>0</vt:lpwstr>
  </property>
  <property fmtid="{D5CDD505-2E9C-101B-9397-08002B2CF9AE}" pid="42" name="UALocRecommendation">
    <vt:lpwstr>Localize</vt:lpwstr>
  </property>
  <property fmtid="{D5CDD505-2E9C-101B-9397-08002B2CF9AE}" pid="43" name="_Author">
    <vt:lpwstr>Microsoft Corporation</vt:lpwstr>
  </property>
  <property fmtid="{D5CDD505-2E9C-101B-9397-08002B2CF9AE}" pid="44" name="_Category">
    <vt:lpwstr/>
  </property>
  <property fmtid="{D5CDD505-2E9C-101B-9397-08002B2CF9AE}" pid="45" name="_Comments">
    <vt:lpwstr/>
  </property>
  <property fmtid="{D5CDD505-2E9C-101B-9397-08002B2CF9AE}" pid="46" name="_Status">
    <vt:lpwstr/>
  </property>
  <property fmtid="{D5CDD505-2E9C-101B-9397-08002B2CF9AE}" pid="47" name="display_urn:schemas-microsoft-com:office:office#APAuthor">
    <vt:lpwstr>REDMOND\cynvey</vt:lpwstr>
  </property>
  <property fmtid="{D5CDD505-2E9C-101B-9397-08002B2CF9AE}" pid="48" name="display_urn:schemas-microsoft-com:office:office#APEditor">
    <vt:lpwstr>REDMOND\v-luannv</vt:lpwstr>
  </property>
</Properties>
</file>