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53D-E90B-42C6-87A9-4E7D8CDD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919-BE13-43B8-9F27-33B477A1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6FA-2978-45DF-B38A-B2F91851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F9E-6D79-4AC8-8E8A-9DAB5653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703-6167-4AA9-8D99-B36E4C99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040-1B49-4AA1-B67C-8168DBFF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848-1857-4DDD-A9AB-93024105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4B1-C00F-4FBA-9F50-08D1E444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F74-244B-4F83-9316-F7766838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456-5F46-48A0-86E9-9C6EAF17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DB6-38CE-4FC3-884D-1DC796CA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FC1-A144-4336-AAF7-F06FBB0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07A1-4274-4D20-B814-D4FB8B1BA1F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42307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763640" y="3807360"/>
            <a:ext cx="568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e2e08"/>
                </a:solidFill>
                <a:latin typeface="Arial Tj"/>
              </a:rPr>
              <a:t>Стратегияи муштараки кишвар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2e08"/>
                </a:solidFill>
                <a:latin typeface="Arial Tj"/>
              </a:rPr>
              <a:t>Њ</a:t>
            </a:r>
            <a:r>
              <a:rPr b="0" lang="ru-RU" sz="2600" spc="-1" strike="noStrike">
                <a:solidFill>
                  <a:srgbClr val="ee2e08"/>
                </a:solidFill>
                <a:latin typeface="Arial Tj"/>
              </a:rPr>
              <a:t>амкорї: инкишоф ва дурнам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672360" y="6381720"/>
            <a:ext cx="179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Tj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 Tj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 Tj"/>
              </a:rPr>
              <a:t>уми декабр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32000" y="5013360"/>
            <a:ext cx="727236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Tj"/>
              </a:rPr>
              <a:t>Давлаталї Саид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 Tj"/>
              </a:rPr>
              <a:t>Раиси Кумитаи давлатии сармоягузорї ва идора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 Tj"/>
              </a:rPr>
              <a:t>амволи давлатии Љумњурии Тољикист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7"/>
          <p:cNvSpPr/>
          <p:nvPr/>
        </p:nvSpPr>
        <p:spPr>
          <a:xfrm>
            <a:off x="5580000" y="3068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хши Маори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341360"/>
          <a:ext cx="8172360" cy="920880"/>
        </p:xfrm>
        <a:graphic>
          <a:graphicData uri="http://schemas.openxmlformats.org/drawingml/2006/table">
            <a:tbl>
              <a:tblPr/>
              <a:tblGrid>
                <a:gridCol w="566640"/>
                <a:gridCol w="1133640"/>
                <a:gridCol w="1135080"/>
                <a:gridCol w="1066680"/>
                <a:gridCol w="1135080"/>
                <a:gridCol w="1479600"/>
                <a:gridCol w="1655640"/>
              </a:tblGrid>
              <a:tr h="58572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 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666666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8ea2c1"/>
                    </a:solidFill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7990b3"/>
                    </a:solidFill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5d7faa"/>
                    </a:solidFill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3f6fa2"/>
                    </a:solidFill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0c619b"/>
                    </a:solidFill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8352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005695"/>
                    </a:solidFill>
                  </a:tcPr>
                </a:tc>
              </a:tr>
            </a:tbl>
          </a:graphicData>
        </a:graphic>
      </p:graphicFrame>
      <p:sp>
        <p:nvSpPr>
          <p:cNvPr id="116" name="TextBox 7"/>
          <p:cNvSpPr/>
          <p:nvPr/>
        </p:nvSpPr>
        <p:spPr>
          <a:xfrm>
            <a:off x="4356000" y="2421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Tj"/>
              </a:rPr>
              <a:t>Харитаи кўмаки беруна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Tj"/>
              </a:rPr>
              <a:t>Тољикис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Vaio\Desktop\edu.gif"/>
          <p:cNvPicPr/>
          <p:nvPr/>
        </p:nvPicPr>
        <p:blipFill>
          <a:blip r:embed="rId1"/>
          <a:stretch/>
        </p:blipFill>
        <p:spPr>
          <a:xfrm>
            <a:off x="0" y="1700280"/>
            <a:ext cx="8207280" cy="554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547640" y="115920"/>
            <a:ext cx="741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Tj"/>
              </a:rPr>
              <a:t>Таќсимот дар доираи минтаќањ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Tj"/>
              </a:rPr>
              <a:t>Хотим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Tj"/>
              </a:rPr>
              <a:t>Њамоњангии кўмаки беруна бо чорањои пешбинишудаи СПКС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Tj"/>
              </a:rPr>
              <a:t>Масъулияти муштарак барои механизмњои њамоњангсозии бахшї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Tj"/>
              </a:rPr>
              <a:t>Тафсири муштараки расмиёти миллї (буљет, њисоботи молиявї, аудит, харидњо) ва баррасии имконияти истифодаи онњо мавриди татбиќи лоињањо ва барномањои кўмаки беру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Tj"/>
              </a:rPr>
              <a:t>Мониторинги нишондодњои (индикаторњои) СМКЊ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Tj"/>
              </a:rPr>
              <a:t>КДСИАД ба љараёни љалб, истифода, њамоњангсозї ва мониторинги кўмаки беруна бо дастгирии њамкорон оид ба рушд роњбарї мекуна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3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423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795320" y="4295880"/>
            <a:ext cx="5553360" cy="561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1332000" y="4943520"/>
            <a:ext cx="6373800" cy="1914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476360" y="147600"/>
            <a:ext cx="702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Tj"/>
              </a:rPr>
              <a:t>Кўмаки беруна ва њуљљатњои стратељ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Diagram 2" descr=""/>
          <p:cNvPicPr/>
          <p:nvPr/>
        </p:nvPicPr>
        <p:blipFill>
          <a:blip r:embed="rId2"/>
          <a:stretch/>
        </p:blipFill>
        <p:spPr>
          <a:xfrm>
            <a:off x="1255680" y="1768320"/>
            <a:ext cx="7139160" cy="4754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Tj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Arial Tj"/>
              </a:rPr>
              <a:t>Маќсадњои СМК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Tj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Тасдиќ кардани ўњдадорињои умумии њамкорон дар мусоидат намудан ба дастгирии њадафњо ва стратегияњои рушди Тољикистон, тавре ки дар Стратегияи Миллии Рушд (СМР) ва Стратегияњои паст кардани сатњи камбизоатии </a:t>
            </a:r>
            <a:r>
              <a:rPr b="0" lang="en-US" sz="2000" spc="-1" strike="noStrike">
                <a:solidFill>
                  <a:srgbClr val="000000"/>
                </a:solidFill>
                <a:latin typeface="Arial Tj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СПКСК) дахлдор зикр шудаанд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Tj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Муайян намудани диди стратељии умумї ва чањорчўбаи ягонаи самти муайян барои њамоњангсозии самарабахшии кўмак ва идоракунии њаракати маблаѓи њамкорони СМКЊ, ки барои  кишвар ворид шудаанд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 Tj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Бањри бунёди чорањои зарурї, барои муваффаќ гардидан б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маќсадњои мувофиќашуда оид ба рушд, аз љумла нишондињандањое, ки тавассути онњо мониторинги принсипњои муштараки самарабахшии кўмак мавриди амал ќарор мегирад, мусоидат намуд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Tj"/>
              </a:rPr>
              <a:t>Самтњо барои таносуби бењтарш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Tj"/>
              </a:rPr>
              <a:t>Маќсади умумии СМКЊ /Њуку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Як стратегия, яъне</a:t>
            </a:r>
            <a:r>
              <a:rPr b="0" i="1" lang="ru-RU" sz="2000" spc="-1" strike="noStrike">
                <a:solidFill>
                  <a:srgbClr val="000000"/>
                </a:solidFill>
                <a:latin typeface="Arial Tj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СМР Тољикистон дар давраи то соли 2015 ва мутобиќи он СПКСК-3, барои солњои 2010-2012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Як механизми њамоњангсозї, ки тавассути Шўрои Њамоњангсозии Донорњо (ШЊД), ки аз номи њамкорон оид ба рушд баромад менамояд бо  Кумитаи давлатии сармоягузорї ва идораи амволи давлатї</a:t>
            </a:r>
            <a:r>
              <a:rPr b="0" lang="en-US" sz="2000" spc="-1" strike="noStrike">
                <a:solidFill>
                  <a:srgbClr val="000000"/>
                </a:solidFill>
                <a:latin typeface="Arial Tj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КДСИАД</a:t>
            </a:r>
            <a:r>
              <a:rPr b="0" lang="en-US" sz="2000" spc="-1" strike="noStrike">
                <a:solidFill>
                  <a:srgbClr val="000000"/>
                </a:solidFill>
                <a:latin typeface="Arial Tj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, ки аз номи Њукумат ва вазорату идорањо баромад мекунад, 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Tj"/>
              </a:rPr>
              <a:t>Як низоми мониторинг, арзёбї ва натиљањо, ки ба СПКСК-3 вобастаа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Tj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Tj"/>
              </a:rPr>
              <a:t>СМКЊ:  Амалњои Њукум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51"/>
          <p:cNvGrpSpPr/>
          <p:nvPr/>
        </p:nvGrpSpPr>
        <p:grpSpPr>
          <a:xfrm>
            <a:off x="755640" y="1628640"/>
            <a:ext cx="7488360" cy="4877280"/>
            <a:chOff x="755640" y="1628640"/>
            <a:chExt cx="7488360" cy="4877280"/>
          </a:xfrm>
        </p:grpSpPr>
        <p:grpSp>
          <p:nvGrpSpPr>
            <p:cNvPr id="57" name="Group 50"/>
            <p:cNvGrpSpPr/>
            <p:nvPr/>
          </p:nvGrpSpPr>
          <p:grpSpPr>
            <a:xfrm>
              <a:off x="755640" y="1628640"/>
              <a:ext cx="7488360" cy="4732920"/>
              <a:chOff x="755640" y="1628640"/>
              <a:chExt cx="7488360" cy="4732920"/>
            </a:xfrm>
          </p:grpSpPr>
          <p:sp>
            <p:nvSpPr>
              <p:cNvPr id="58" name="Rectangle 36"/>
              <p:cNvSpPr/>
              <p:nvPr/>
            </p:nvSpPr>
            <p:spPr>
              <a:xfrm>
                <a:off x="755640" y="1628640"/>
                <a:ext cx="6546960" cy="69516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37"/>
              <p:cNvSpPr/>
              <p:nvPr/>
            </p:nvSpPr>
            <p:spPr>
              <a:xfrm>
                <a:off x="7302600" y="1628640"/>
                <a:ext cx="941400" cy="69516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40"/>
              <p:cNvSpPr/>
              <p:nvPr/>
            </p:nvSpPr>
            <p:spPr>
              <a:xfrm>
                <a:off x="755640" y="2323800"/>
                <a:ext cx="6546960" cy="69840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41"/>
              <p:cNvSpPr/>
              <p:nvPr/>
            </p:nvSpPr>
            <p:spPr>
              <a:xfrm>
                <a:off x="7302600" y="2323800"/>
                <a:ext cx="941400" cy="69840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44"/>
              <p:cNvSpPr/>
              <p:nvPr/>
            </p:nvSpPr>
            <p:spPr>
              <a:xfrm>
                <a:off x="755640" y="3022560"/>
                <a:ext cx="6546960" cy="69516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45"/>
              <p:cNvSpPr/>
              <p:nvPr/>
            </p:nvSpPr>
            <p:spPr>
              <a:xfrm>
                <a:off x="7302600" y="3022560"/>
                <a:ext cx="941400" cy="69516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48"/>
              <p:cNvSpPr/>
              <p:nvPr/>
            </p:nvSpPr>
            <p:spPr>
              <a:xfrm>
                <a:off x="755640" y="3718080"/>
                <a:ext cx="6546960" cy="100332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49"/>
              <p:cNvSpPr/>
              <p:nvPr/>
            </p:nvSpPr>
            <p:spPr>
              <a:xfrm>
                <a:off x="7302600" y="3718080"/>
                <a:ext cx="941400" cy="100332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52"/>
              <p:cNvSpPr/>
              <p:nvPr/>
            </p:nvSpPr>
            <p:spPr>
              <a:xfrm>
                <a:off x="755640" y="4721400"/>
                <a:ext cx="6546960" cy="86832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53"/>
              <p:cNvSpPr/>
              <p:nvPr/>
            </p:nvSpPr>
            <p:spPr>
              <a:xfrm>
                <a:off x="7302600" y="4721400"/>
                <a:ext cx="941400" cy="87804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755640" y="5599440"/>
                <a:ext cx="6546960" cy="76212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>
                <a:off x="7302600" y="5599440"/>
                <a:ext cx="941400" cy="76212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ktangel 109"/>
            <p:cNvSpPr/>
            <p:nvPr/>
          </p:nvSpPr>
          <p:spPr>
            <a:xfrm>
              <a:off x="1209600" y="1728360"/>
              <a:ext cx="449424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Tj"/>
                </a:rPr>
                <a:t>аз моњи январи соли 2010 ташаббускори баргузории љаласаи њарсолаи шарњи стратељї/ банаќшагирии ШЊД бо Њукумат  оѓоз мешавад.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ktangel 109"/>
            <p:cNvSpPr/>
            <p:nvPr/>
          </p:nvSpPr>
          <p:spPr>
            <a:xfrm>
              <a:off x="1208880" y="2416320"/>
              <a:ext cx="449496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Tj"/>
                </a:rPr>
                <a:t>амалисозї ва натиљањои яксолаи СПКСК –ро бо  Њукумат/ њамкорони СМКЊ- дар аввали моњи марти соли 2010 арзёбї  мекунад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ktangel 109"/>
            <p:cNvSpPr/>
            <p:nvPr/>
          </p:nvSpPr>
          <p:spPr>
            <a:xfrm>
              <a:off x="1208880" y="3135960"/>
              <a:ext cx="4494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Tj"/>
                </a:rPr>
                <a:t>наќшаи зиддибўњронии солњои 2009-2010-ро ворид намуда, таъсиси СПКСК-3,  солњои 2010-2012-ро  то  31 марти соли 2010 анљом медињад;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ktangel 109"/>
            <p:cNvSpPr/>
            <p:nvPr/>
          </p:nvSpPr>
          <p:spPr>
            <a:xfrm>
              <a:off x="1209600" y="3759120"/>
              <a:ext cx="44942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г)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Tj"/>
                </a:rPr>
                <a:t>пас аз ба анљом расидани  таъсиси СПКСК-3, аз љумла  ихтисори њаматарафаи  нишондињандањои мониторинг- то 31 марти соли 2010 сохтор, низоми  мониторинг ва арзёбии БМЊД-ро таѓйир медињад/содда мекунад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ktangel 109"/>
            <p:cNvSpPr/>
            <p:nvPr/>
          </p:nvSpPr>
          <p:spPr>
            <a:xfrm>
              <a:off x="1208880" y="4691520"/>
              <a:ext cx="449496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)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 Tj"/>
                </a:rPr>
                <a:t>кормандони иловагї гирифта, онњоро аз кор намононда бо таълим фаро гирифта таљњизотро нав карда, бо кўмаки техникие, ки дар наќшаи кории DfID/БРСММ нишон дода шудааст, мустањкам намудани шўъбаи њамоњангсозии кўмаки берунаи Кумитаи давлатии сармоягузорї ва идораи амволи давлатиро  то 31 декабри соли 2011 амалї мегардонад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ktangel 109"/>
            <p:cNvSpPr/>
            <p:nvPr/>
          </p:nvSpPr>
          <p:spPr>
            <a:xfrm>
              <a:off x="1208880" y="5643720"/>
              <a:ext cx="449496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е)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Tj"/>
                </a:rPr>
                <a:t>раванди супурдани БМХД-и амалкунандаро ба вазоратњои интихобї - то 31 декабри соли 2013 анљом медињад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Freeform 150"/>
          <p:cNvGrpSpPr/>
          <p:nvPr/>
        </p:nvGrpSpPr>
        <p:grpSpPr>
          <a:xfrm>
            <a:off x="7534440" y="4041720"/>
            <a:ext cx="487080" cy="590760"/>
            <a:chOff x="7534440" y="4041720"/>
            <a:chExt cx="487080" cy="590760"/>
          </a:xfrm>
        </p:grpSpPr>
        <p:pic>
          <p:nvPicPr>
            <p:cNvPr id="77" name="Freeform 150" descr=""/>
            <p:cNvPicPr/>
            <p:nvPr/>
          </p:nvPicPr>
          <p:blipFill>
            <a:blip r:embed="rId2"/>
            <a:stretch/>
          </p:blipFill>
          <p:spPr>
            <a:xfrm>
              <a:off x="7534440" y="4041720"/>
              <a:ext cx="48708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596360" y="4076640"/>
              <a:ext cx="368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Freeform 150"/>
          <p:cNvGrpSpPr/>
          <p:nvPr/>
        </p:nvGrpSpPr>
        <p:grpSpPr>
          <a:xfrm>
            <a:off x="7534440" y="3103560"/>
            <a:ext cx="487080" cy="590400"/>
            <a:chOff x="7534440" y="3103560"/>
            <a:chExt cx="487080" cy="590400"/>
          </a:xfrm>
        </p:grpSpPr>
        <p:pic>
          <p:nvPicPr>
            <p:cNvPr id="80" name="Freeform 150" descr=""/>
            <p:cNvPicPr/>
            <p:nvPr/>
          </p:nvPicPr>
          <p:blipFill>
            <a:blip r:embed="rId3"/>
            <a:stretch/>
          </p:blipFill>
          <p:spPr>
            <a:xfrm>
              <a:off x="7534440" y="3103560"/>
              <a:ext cx="4870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596360" y="3141720"/>
              <a:ext cx="368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Freeform 150"/>
          <p:cNvGrpSpPr/>
          <p:nvPr/>
        </p:nvGrpSpPr>
        <p:grpSpPr>
          <a:xfrm>
            <a:off x="7534440" y="2457360"/>
            <a:ext cx="487080" cy="590760"/>
            <a:chOff x="7534440" y="2457360"/>
            <a:chExt cx="487080" cy="590760"/>
          </a:xfrm>
        </p:grpSpPr>
        <p:pic>
          <p:nvPicPr>
            <p:cNvPr id="83" name="Freeform 150" descr=""/>
            <p:cNvPicPr/>
            <p:nvPr/>
          </p:nvPicPr>
          <p:blipFill>
            <a:blip r:embed="rId4"/>
            <a:stretch/>
          </p:blipFill>
          <p:spPr>
            <a:xfrm>
              <a:off x="7534440" y="2457360"/>
              <a:ext cx="48708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596360" y="2492280"/>
              <a:ext cx="368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7667640" y="5732640"/>
            <a:ext cx="162000" cy="433080"/>
            <a:chOff x="7667640" y="5732640"/>
            <a:chExt cx="162000" cy="433080"/>
          </a:xfrm>
        </p:grpSpPr>
        <p:sp>
          <p:nvSpPr>
            <p:cNvPr id="86" name="Freeform 6"/>
            <p:cNvSpPr/>
            <p:nvPr/>
          </p:nvSpPr>
          <p:spPr>
            <a:xfrm flipH="1">
              <a:off x="7692840" y="6083280"/>
              <a:ext cx="114480" cy="824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 flipH="1">
              <a:off x="7667640" y="5732640"/>
              <a:ext cx="162000" cy="3157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5"/>
          <p:cNvGrpSpPr/>
          <p:nvPr/>
        </p:nvGrpSpPr>
        <p:grpSpPr>
          <a:xfrm>
            <a:off x="7667640" y="4869000"/>
            <a:ext cx="171360" cy="523800"/>
            <a:chOff x="7667640" y="4869000"/>
            <a:chExt cx="171360" cy="523800"/>
          </a:xfrm>
        </p:grpSpPr>
        <p:sp>
          <p:nvSpPr>
            <p:cNvPr id="89" name="Freeform 6"/>
            <p:cNvSpPr/>
            <p:nvPr/>
          </p:nvSpPr>
          <p:spPr>
            <a:xfrm flipH="1">
              <a:off x="7693920" y="5293080"/>
              <a:ext cx="120600" cy="997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 flipH="1">
              <a:off x="7667640" y="4869000"/>
              <a:ext cx="171360" cy="380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7667640" y="1700280"/>
            <a:ext cx="171360" cy="523800"/>
            <a:chOff x="7667640" y="1700280"/>
            <a:chExt cx="171360" cy="523800"/>
          </a:xfrm>
        </p:grpSpPr>
        <p:sp>
          <p:nvSpPr>
            <p:cNvPr id="92" name="Freeform 6"/>
            <p:cNvSpPr/>
            <p:nvPr/>
          </p:nvSpPr>
          <p:spPr>
            <a:xfrm flipH="1">
              <a:off x="7693920" y="2124360"/>
              <a:ext cx="120600" cy="997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 flipH="1">
              <a:off x="7667640" y="1700280"/>
              <a:ext cx="171360" cy="380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Tj"/>
              </a:rPr>
              <a:t>Принсипњои муштараки  самарабахшии кўмаки беруна: шартњо ва чорањо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1557360"/>
          <a:ext cx="8424720" cy="4968720"/>
        </p:xfrm>
        <a:graphic>
          <a:graphicData uri="http://schemas.openxmlformats.org/drawingml/2006/table">
            <a:tbl>
              <a:tblPr/>
              <a:tblGrid>
                <a:gridCol w="3003480"/>
                <a:gridCol w="5421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Шартњои зарурї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Tj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0eb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Чорањои андешидаш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0ebff">
                        <a:alpha val="48000"/>
                      </a:srgbClr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Њамоњангсозии миллї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  <a:ea typeface="Arial"/>
                        </a:rPr>
                        <a:t>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«Ќоидањо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Таъсиси гурўњи кории байниидоравї                                                                                                                                                                                                                                                          доир ба масъалањои самарабахшии кўмак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Њамоњангсозии байни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њамкорон оид ба руш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Бењтар намудани фаъолияти  ШЊ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ва    таъсиси котиботи о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Бењтар намудани мусоњиба байни Њукумат ва Њамкор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Ташаккули наќшаи амалияи СМКЊ, ки ба СПКСК-3 нигаронида шудааст; Бењтар намудани њамкорї миёни КДСИАД ва ШЊД (механизми њамоњангсозии яг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Њамоњангсозии соњавии бењта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Муайянсозии  механизмњои фаъолияти гурўњњои кории соња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Шаффофияти сатњи балан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Махзани маълумот. Њисобот оид ба кўмаки беруна, бењтаркунии љараёни љамъи иттилоот (НИИ-Низоми иттилоотии идоракунї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Монитор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Тасдиќи нишондодњо (индикаторњ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Мўњлати муайя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Алоќамандї бо мониторинги Эъломияи Пари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>
                        <a:alpha val="48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Tj"/>
              </a:rPr>
              <a:t>Вазифањои КДСИАД дар бахши</a:t>
            </a:r>
            <a:r>
              <a:rPr b="0" lang="en-US" sz="3200" spc="-1" strike="noStrike">
                <a:solidFill>
                  <a:srgbClr val="ffffff"/>
                </a:solidFill>
                <a:latin typeface="Arial Tj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Tj"/>
              </a:rPr>
              <a:t>њамоњангсозии кўмаки беру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Diagram 2" descr=""/>
          <p:cNvPicPr/>
          <p:nvPr/>
        </p:nvPicPr>
        <p:blipFill>
          <a:blip r:embed="rId2"/>
          <a:stretch/>
        </p:blipFill>
        <p:spPr>
          <a:xfrm>
            <a:off x="1243080" y="1736640"/>
            <a:ext cx="7705800" cy="45054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1459080" y="5877000"/>
            <a:ext cx="76849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74720" rIns="156600" tIns="182880" bIns="182880" anchor="ctr">
            <a:noAutofit/>
          </a:bodyPr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6228"/>
                </a:solidFill>
                <a:latin typeface="Arial Tj"/>
              </a:rPr>
              <a:t>  </a:t>
            </a:r>
            <a:r>
              <a:rPr b="0" lang="ru-RU" sz="1600" spc="-1" strike="noStrike">
                <a:solidFill>
                  <a:srgbClr val="4f6228"/>
                </a:solidFill>
                <a:latin typeface="Arial Tj"/>
              </a:rPr>
              <a:t>Ќабули Ќоидањ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6228"/>
                </a:solidFill>
                <a:latin typeface="Arial Tj"/>
              </a:rPr>
              <a:t>  </a:t>
            </a:r>
            <a:r>
              <a:rPr b="0" lang="ru-RU" sz="1600" spc="-1" strike="noStrike">
                <a:solidFill>
                  <a:srgbClr val="4f6228"/>
                </a:solidFill>
                <a:latin typeface="Arial Tj"/>
              </a:rPr>
              <a:t>Тањияи њуљљатњои њамроњикуна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774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Tj"/>
              </a:rPr>
              <a:t>Њамоњангии кўмаки беруна бо СПКСК</a:t>
            </a:r>
            <a:br>
              <a:rPr sz="3200"/>
            </a:b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755640" y="6453360"/>
            <a:ext cx="66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Tj"/>
              </a:rPr>
              <a:t>Маъхаз:</a:t>
            </a:r>
            <a:r>
              <a:rPr b="0" lang="en-US" sz="1200" spc="-1" strike="noStrike">
                <a:solidFill>
                  <a:srgbClr val="000000"/>
                </a:solidFill>
                <a:latin typeface="Arial Tj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Tj"/>
              </a:rPr>
              <a:t>Ҳисобот  оид ба  кўмаки беруна -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700280"/>
          <a:ext cx="7632720" cy="4613040"/>
        </p:xfrm>
        <a:graphic>
          <a:graphicData uri="http://schemas.openxmlformats.org/drawingml/2006/table">
            <a:tbl>
              <a:tblPr/>
              <a:tblGrid>
                <a:gridCol w="487440"/>
                <a:gridCol w="3130560"/>
                <a:gridCol w="1206360"/>
                <a:gridCol w="1309680"/>
                <a:gridCol w="1498680"/>
              </a:tblGrid>
              <a:tr h="10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Tj"/>
                          <a:ea typeface="ＭＳ Ｐゴシック"/>
                        </a:rPr>
                        <a:t>Номи бахшњ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Пардохтњои умумї (њазор долл. И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Пардохтњои дар доираи СПКСК (њазор долл. ИМА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%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(сутуни 4:сутуни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130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285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Идораи давлат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8.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4.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Кишоварзї ва обёр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44.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41.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312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Муњити з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23.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0.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271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Энергетик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2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20.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298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Наќлиё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42.8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40.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Обтаъминкунї ва канализат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9.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6.2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271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Маори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24.3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24.2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9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271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Тандуруст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30.0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20.8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285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Њифзи иљтимої ва шуѓли ањол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52.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271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Бахши хусусї ва истењсол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7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  <a:tr h="285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Дигарњ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2.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260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Tj"/>
                        </a:rPr>
                        <a:t>Дар маљмў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489.3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370.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d5e2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6"/>
          <p:cNvSpPr/>
          <p:nvPr/>
        </p:nvSpPr>
        <p:spPr>
          <a:xfrm>
            <a:off x="4859280" y="236232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Tj"/>
              </a:rPr>
              <a:t>Бахши Кишоварзї ва обёр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250920" y="2362320"/>
            <a:ext cx="40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Arial Tj"/>
              </a:rPr>
              <a:t>Б</a:t>
            </a:r>
            <a:r>
              <a:rPr b="1" lang="ru-RU" sz="1400" spc="-1" strike="noStrike">
                <a:solidFill>
                  <a:srgbClr val="000000"/>
                </a:solidFill>
                <a:latin typeface="Arial Tj"/>
              </a:rPr>
              <a:t>ахши </a:t>
            </a:r>
            <a:r>
              <a:rPr b="1" lang="tt-RU" sz="1400" spc="-1" strike="noStrike">
                <a:solidFill>
                  <a:srgbClr val="000000"/>
                </a:solidFill>
                <a:latin typeface="Arial Tj"/>
              </a:rPr>
              <a:t>х</a:t>
            </a:r>
            <a:r>
              <a:rPr b="1" lang="ru-RU" sz="1400" spc="-1" strike="noStrike">
                <a:solidFill>
                  <a:srgbClr val="000000"/>
                </a:solidFill>
                <a:latin typeface="Arial Tj"/>
              </a:rPr>
              <a:t>усусї ва сано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Объект 1518" descr=""/>
          <p:cNvPicPr/>
          <p:nvPr/>
        </p:nvPicPr>
        <p:blipFill>
          <a:blip r:embed="rId1"/>
          <a:srcRect l="-1050" t="-1288" r="-2043" b="-2895"/>
          <a:stretch/>
        </p:blipFill>
        <p:spPr>
          <a:xfrm>
            <a:off x="179280" y="2852640"/>
            <a:ext cx="4248360" cy="3024360"/>
          </a:xfrm>
          <a:prstGeom prst="rect">
            <a:avLst/>
          </a:prstGeom>
          <a:ln w="0">
            <a:noFill/>
          </a:ln>
        </p:spPr>
      </p:pic>
      <p:pic>
        <p:nvPicPr>
          <p:cNvPr id="108" name="Диаграмма 5" descr=""/>
          <p:cNvPicPr/>
          <p:nvPr/>
        </p:nvPicPr>
        <p:blipFill>
          <a:blip r:embed="rId2"/>
          <a:srcRect l="-570" t="-3133" r="-8613" b="-3700"/>
          <a:stretch/>
        </p:blipFill>
        <p:spPr>
          <a:xfrm>
            <a:off x="4716360" y="2781360"/>
            <a:ext cx="424836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179280" y="1484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Tj"/>
              </a:rPr>
              <a:t>Љадвали љараёни таѓйири пардохтњо оид ба карзњо ва грантњо барои давраи солњои 2002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1403280" y="115920"/>
            <a:ext cx="7416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0" y="5950080"/>
            <a:ext cx="66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Tj"/>
              </a:rPr>
              <a:t>Маъхаз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Tj"/>
              </a:rPr>
              <a:t>Ҳисобот  оид ба  кўмаки беруна -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Рисунок2"/>
          <p:cNvPicPr/>
          <p:nvPr/>
        </p:nvPicPr>
        <p:blipFill>
          <a:blip r:embed="rId3"/>
          <a:stretch/>
        </p:blipFill>
        <p:spPr>
          <a:xfrm>
            <a:off x="0" y="0"/>
            <a:ext cx="9144000" cy="1482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1634760" y="465840"/>
            <a:ext cx="52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Tj"/>
              </a:rPr>
              <a:t>Тамоюли дастгирии бахшњ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3:41:51Z</dcterms:created>
  <dc:creator>Ансори</dc:creator>
  <dc:description/>
  <dc:language>en-US</dc:language>
  <cp:lastModifiedBy>XTreme</cp:lastModifiedBy>
  <dcterms:modified xsi:type="dcterms:W3CDTF">2010-12-02T06:50:26Z</dcterms:modified>
  <cp:revision>49</cp:revision>
  <dc:subject/>
  <dc:title>ОМИЛЫОИ МУЫИМ </dc:title>
</cp:coreProperties>
</file>