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24C57D-474D-476B-9B3F-190302E4E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507C4D-53A7-4B50-8919-17E52AD639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1E27CD-DD4C-45EC-BDC3-F5B2843009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5B6F19-5AAF-4F05-AC74-64D1B24AA1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viation—DCC recommends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ccelerated implement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f recently approv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aviation sector strateg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including improved access by international airlines to Tajikistan’s airports and traff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859008-5FA2-43EC-A5EC-620134F1E2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526517-C7D8-479E-ACB3-274CED1F5E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0530-36E9-42F2-BBDF-E0C912C53C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D9D197-62F0-4411-BB7D-57B7308929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C70749-E67C-406E-A23E-FB716B4675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EDFAD3-9A71-4903-A3AA-BD82CC57E9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9BD310-40C2-40B1-83BD-05F2EC4DDF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2ADC2A-9E66-497F-B688-6D6BC32704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BA5A78-E392-4304-9585-2309E553A4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4C1708-1D63-44F4-9813-29459DD326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071353-7EDB-44BB-A381-3F7EEA13AE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DEA3-4365-4407-A389-6B258F4C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A85-8443-48EC-B3A9-55AA9015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F20F-869E-420B-8ED2-1C26E9E7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774-8E3E-4948-A1FB-FA5C9B5E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4AF4-58B4-41A2-BBFE-3D54FBF6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AE2E-22A0-4B3A-B172-1CD64469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C098-4BD2-4393-928B-653260AC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2E21-261B-4733-A032-109A89A4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01B2-BB81-4F45-8F01-194D6B6A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48CB-8A37-4C5E-8EC3-64AFD680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4E07-8785-42B6-8F18-FCA5669E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2F4-641C-4486-99A8-E44C3588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EF7A-E508-4942-9080-C54A9C1E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FB68-F26E-4D76-A09D-E30AEFD9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12CA-EE04-4933-8E40-A2F1275B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363E-4265-4DA4-B563-8D3ABD90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076B-3660-4E51-81FF-8B357CDB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10B04-64D6-4BB5-B5C3-299BC04D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B7D0C-07DC-4B1B-814B-6013F722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45C91-EBA4-4B1B-AB7D-F3DAB76A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62F9C-69CF-48EC-B3C7-961D712A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F2160-308E-4D31-A16A-7C70D12E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859-FB1E-431B-B27C-086C1DA1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DFB55-2CCF-4262-A8C1-51969EA7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EA3F0-DC8F-4FBE-8015-94DB8190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B9679-31CE-484A-99AC-22098F17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75AC4-F659-4766-91BC-F812DB74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B84B3-9947-4981-84D0-EE78B88A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8EE70-2D4C-44C0-B046-5428D828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BF938-10EF-4DA0-8C8B-648BCEF3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4BE4-B9D5-4411-BE46-C1F49AF0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02D-56F4-460D-9BE3-A031BD58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074C-6DA9-4902-BD74-B88E3E87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45A-9E2B-436B-B634-A74FD12F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D5C-543A-4084-AF90-1CBBFFB4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8558-8B71-4392-A1ED-2246AA1A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1000" y="91440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7144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63d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12163d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00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FC5B-9BBD-4AE4-8ADB-F18D41C12AC3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2FED1A46-DA8B-4182-A019-443D49436FB9}" type="datetime10">
              <a:rPr b="0" lang="en-US" sz="1800" spc="-1" strike="noStrike">
                <a:solidFill>
                  <a:srgbClr val="000000"/>
                </a:solidFill>
                <a:latin typeface="Arial"/>
              </a:rPr>
              <a:t>05:4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00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 Development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00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278F-1C33-4DBF-9B5F-C1A228881A7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0F3A-A3F6-4F54-9EA3-FE2B8D2FF86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630C58A9-D727-4361-B18D-7BF5140EDD2B}" type="datetime10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5:4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10 Development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076B-FC97-43AB-9AF6-DCAE1E3E2F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351000" y="91440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7144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63d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12163d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81F2-6981-4978-8421-80E76E80E11F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F5BAB1CD-4784-4D10-AD94-EE88E723B6A0}" type="datetime10">
              <a:rPr b="0" lang="en-US" sz="1800" spc="-1" strike="noStrike">
                <a:solidFill>
                  <a:srgbClr val="000000"/>
                </a:solidFill>
                <a:latin typeface="Arial"/>
              </a:rPr>
              <a:t>05:4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00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 Development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ED02-E0C3-4C24-B4A4-1CE882E22EB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-19080" y="3828960"/>
            <a:ext cx="9163080" cy="3029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63080" cy="2333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397240"/>
            <a:ext cx="7772400" cy="14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4400" spc="-1" strike="noStrike">
                <a:solidFill>
                  <a:srgbClr val="000000"/>
                </a:solidFill>
                <a:latin typeface="Calibri"/>
              </a:rPr>
              <a:t>Муҳити соҳибкорӣ ва хоҷагии қишло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367160" y="4781520"/>
            <a:ext cx="4548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g-Cyrl-TJ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аърӯзаи ШҲД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оруми руш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-4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абрь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2010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ушанбе, Тоҷикист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600" spc="-1" strike="noStrike">
                <a:solidFill>
                  <a:srgbClr val="ffffff"/>
                </a:solidFill>
                <a:latin typeface="Calibri"/>
              </a:rPr>
              <a:t>Пеш аз паҳн кардан санҷида шава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1434-0396-44A9-B0BA-32230AA26D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69FFE2-0863-4F5F-A29D-FA6A095F2D68}" type="datetime10">
              <a:rPr b="0" lang="en-US" sz="1200" spc="-1" strike="noStrike">
                <a:solidFill>
                  <a:srgbClr val="898989"/>
                </a:solidFill>
                <a:latin typeface="Calibri"/>
              </a:rPr>
              <a:t>05:41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1D61-772E-4C97-81BA-C26D9DCBE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4400" spc="-1" strike="noStrike">
                <a:solidFill>
                  <a:srgbClr val="000000"/>
                </a:solidFill>
                <a:latin typeface="Calibri"/>
              </a:rPr>
              <a:t>Дастовард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600" spc="-1" strike="noStrike">
                <a:solidFill>
                  <a:srgbClr val="000000"/>
                </a:solidFill>
                <a:latin typeface="Calibri"/>
              </a:rPr>
              <a:t>МҲД арзёбии комёбиҳои тозаи ҳукумати ҶТ-ро хусусан дар ҷабҳаҳои зерин дастгирӣ менамояд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spcBef>
                <a:spcPts val="4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600" spc="-1" strike="noStrike">
                <a:solidFill>
                  <a:srgbClr val="4d4d4d"/>
                </a:solidFill>
                <a:latin typeface="Calibri"/>
              </a:rPr>
              <a:t>Қарори</a:t>
            </a:r>
            <a:r>
              <a:rPr b="0" lang="en-US" sz="1600" spc="-1" strike="noStrike">
                <a:solidFill>
                  <a:srgbClr val="4d4d4d"/>
                </a:solidFill>
                <a:latin typeface="Calibri"/>
              </a:rPr>
              <a:t> 111 (“</a:t>
            </a:r>
            <a:r>
              <a:rPr b="0" lang="tg-Cyrl-TJ" sz="1600" spc="-1" strike="noStrike">
                <a:solidFill>
                  <a:srgbClr val="4d4d4d"/>
                </a:solidFill>
                <a:latin typeface="Calibri"/>
              </a:rPr>
              <a:t>озодӣ дар интихоби зироат</a:t>
            </a:r>
            <a:r>
              <a:rPr b="0" lang="en-US" sz="1600" spc="-1" strike="noStrike">
                <a:solidFill>
                  <a:srgbClr val="4d4d4d"/>
                </a:solidFill>
                <a:latin typeface="Calibri"/>
              </a:rPr>
              <a:t>”) </a:t>
            </a:r>
            <a:r>
              <a:rPr b="0" lang="tg-Cyrl-TJ" sz="1600" spc="-1" strike="noStrike">
                <a:solidFill>
                  <a:srgbClr val="4d4d4d"/>
                </a:solidFill>
                <a:latin typeface="Calibri"/>
              </a:rPr>
              <a:t>ва қарор оиди бахшидани қарзи пахта</a:t>
            </a:r>
            <a:r>
              <a:rPr b="0" lang="en-US" sz="1600" spc="-1" strike="noStrike">
                <a:solidFill>
                  <a:srgbClr val="4d4d4d"/>
                </a:solidFill>
                <a:latin typeface="Calibri"/>
              </a:rPr>
              <a:t>, </a:t>
            </a:r>
            <a:r>
              <a:rPr b="0" lang="tg-Cyrl-TJ" sz="1600" spc="-1" strike="noStrike">
                <a:solidFill>
                  <a:srgbClr val="4d4d4d"/>
                </a:solidFill>
                <a:latin typeface="Calibri"/>
              </a:rPr>
              <a:t>ки аллакай сабабгори гуногунии зироатҳо ва рушди хоҷагии қишлоқ гарди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spcBef>
                <a:spcPts val="4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600" spc="-1" strike="noStrike">
                <a:solidFill>
                  <a:srgbClr val="4d4d4d"/>
                </a:solidFill>
                <a:latin typeface="Calibri"/>
              </a:rPr>
              <a:t>Ислоҳоти замин </a:t>
            </a:r>
            <a:r>
              <a:rPr b="0" lang="en-US" sz="1600" spc="-1" strike="noStrike">
                <a:solidFill>
                  <a:srgbClr val="4d4d4d"/>
                </a:solidFill>
                <a:latin typeface="Calibri"/>
              </a:rPr>
              <a:t>- </a:t>
            </a:r>
            <a:r>
              <a:rPr b="0" lang="tg-Cyrl-TJ" sz="1600" spc="-1" strike="noStrike">
                <a:solidFill>
                  <a:srgbClr val="4d4d4d"/>
                </a:solidFill>
                <a:latin typeface="Calibri"/>
              </a:rPr>
              <a:t>қариб</a:t>
            </a:r>
            <a:r>
              <a:rPr b="0" lang="en-US" sz="1600" spc="-1" strike="noStrike">
                <a:solidFill>
                  <a:srgbClr val="4d4d4d"/>
                </a:solidFill>
                <a:latin typeface="Calibri"/>
              </a:rPr>
              <a:t> 50,000 </a:t>
            </a:r>
            <a:r>
              <a:rPr b="0" lang="tg-Cyrl-TJ" sz="1600" spc="-1" strike="noStrike">
                <a:solidFill>
                  <a:srgbClr val="4d4d4d"/>
                </a:solidFill>
                <a:latin typeface="Calibri"/>
              </a:rPr>
              <a:t> шаҳодатномаи истифодабарандагони замин ба хоҷагиҳои деҳқонии оилавӣ дода шуд, ташкили бозори  иловагӣ ва ғайра</a:t>
            </a:r>
            <a:r>
              <a:rPr b="0" lang="en-US" sz="1600" spc="-1" strike="noStrike">
                <a:solidFill>
                  <a:srgbClr val="4d4d4d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600" spc="-1" strike="noStrike">
                <a:solidFill>
                  <a:srgbClr val="000000"/>
                </a:solidFill>
                <a:latin typeface="Calibri"/>
              </a:rPr>
              <a:t>Қарзҳои хоҷагии қишлоқ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tg-Cyrl-TJ" sz="1600" spc="-1" strike="noStrike">
                <a:solidFill>
                  <a:srgbClr val="000000"/>
                </a:solidFill>
                <a:latin typeface="Calibri"/>
              </a:rPr>
              <a:t>чораҳо оиди тақвияти системаи умумии молиявӣ кор карда баромада шуда ва дар ҳолати иҷроиш қарор доран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600" spc="-1" strike="noStrike">
                <a:solidFill>
                  <a:srgbClr val="000000"/>
                </a:solidFill>
                <a:latin typeface="Calibri"/>
              </a:rPr>
              <a:t>Қарори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406 (</a:t>
            </a:r>
            <a:r>
              <a:rPr b="0" lang="tg-Cyrl-TJ" sz="1600" spc="-1" strike="noStrike">
                <a:solidFill>
                  <a:srgbClr val="000000"/>
                </a:solidFill>
                <a:latin typeface="Calibri"/>
              </a:rPr>
              <a:t> Нақшаи фаъолияти ислоҳоти хоҷагии қишлоқ) ислоҳоти назаррас инчунин тағйиротҳо дар як қатор қонун ва муассисаҳо дар худ таҷассум менамояд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tg-Cyrl-TJ" sz="1600" spc="-1" strike="noStrike">
                <a:solidFill>
                  <a:srgbClr val="000000"/>
                </a:solidFill>
                <a:latin typeface="Calibri"/>
              </a:rPr>
              <a:t> 6 гурӯҳи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рӣ, ки  ҷабҳаҳои гуногунро фаро мегирад созмон дода шуданд , ки машғули омода намудани ҳуҷҷатҳои стратегӣ мебошан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600" spc="-1" strike="noStrike">
                <a:solidFill>
                  <a:srgbClr val="000000"/>
                </a:solidFill>
                <a:latin typeface="Calibri"/>
              </a:rPr>
              <a:t>Нақшаи сармоягузории хоҷагии қишлоқ барои солҳои 201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15 дар асоси афзалиятҳои рушди ҳамоҳангшуда ва ислоҳоти сиёса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оруми рушд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652E-B370-491A-9AA6-539C35369C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2F1759-7A2E-4A76-9141-E273BA0B8A27}" type="datetime10">
              <a:rPr b="0" lang="en-US" sz="1200" spc="-1" strike="noStrike">
                <a:solidFill>
                  <a:srgbClr val="898989"/>
                </a:solidFill>
                <a:latin typeface="Calibri"/>
              </a:rPr>
              <a:t>05:41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3D4A-2F01-4249-98DC-793CB8217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4400" spc="-1" strike="noStrike">
                <a:solidFill>
                  <a:srgbClr val="000000"/>
                </a:solidFill>
                <a:latin typeface="Calibri"/>
              </a:rPr>
              <a:t>Мушкил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25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000000"/>
                </a:solidFill>
                <a:latin typeface="Calibri"/>
              </a:rPr>
              <a:t>Базаи ҳуқуқӣ, меъёрӣ ва ниҳодии ғайриқаноатбахш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000000"/>
                </a:solidFill>
                <a:latin typeface="Calibri"/>
              </a:rPr>
              <a:t>Дастрасии нокифояи деҳқонон ба қарзҳо, хизматрасониҳои молиявӣ ва дигар намуди хизматрасониҳои ёридиҳанда – моделҳои таҷрибавӣ мавчуданд, аммо бояд корҳои фаҳмондадиҳиро ба сомон расон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000000"/>
                </a:solidFill>
                <a:latin typeface="Calibri"/>
              </a:rPr>
              <a:t>Ҳолати бади инфрасохторӣ (масалан: обёрӣ) ва хизматрасонӣ  (қувваи барқ), ки сабабгори ҳосилнокии кам гардидаас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000000"/>
                </a:solidFill>
                <a:latin typeface="Calibri"/>
              </a:rPr>
              <a:t>Шароити номусоиди тиҷорат, монеъаҳо дар роҳи дастрасӣ ба бозори маҳаллии молҳои хоҷагии қишлоқ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000000"/>
                </a:solidFill>
                <a:latin typeface="Calibri"/>
              </a:rPr>
              <a:t>Паст шудани захираҳои табиӣ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tg-Cyrl-TJ" sz="2000" spc="-1" strike="noStrike">
                <a:solidFill>
                  <a:srgbClr val="000000"/>
                </a:solidFill>
                <a:latin typeface="Calibri"/>
              </a:rPr>
              <a:t> эрозияи хок,  ҳосилнокии хок, аз даст додани заминҳои кор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000000"/>
                </a:solidFill>
                <a:latin typeface="Calibri"/>
              </a:rPr>
              <a:t>Иқтидори паст гузаронидани корҳои тадқиқотӣ, васеъкунӣ ва омӯзишӣ дар соҳаи хоҷагии қишло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оруми рушд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F460-70DE-4AE9-A818-9A6B39E7C6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E0D805-7376-460B-9989-7AE9ED4BB73D}" type="datetime10">
              <a:rPr b="0" lang="en-US" sz="1200" spc="-1" strike="noStrike">
                <a:solidFill>
                  <a:srgbClr val="898989"/>
                </a:solidFill>
                <a:latin typeface="Calibri"/>
              </a:rPr>
              <a:t>05:41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03BE-36A1-4B5E-BEEA-9008FACE4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Афзалиятҳои асосӣ</a:t>
            </a:r>
            <a:r>
              <a:rPr b="0" lang="tg-Cyrl-TJ" sz="3400" spc="-1" strike="noStrike">
                <a:solidFill>
                  <a:srgbClr val="000000"/>
                </a:solidFill>
                <a:latin typeface="Calibri"/>
              </a:rPr>
              <a:t> барои солҳои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2011-1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900" spc="-1" strike="noStrike">
                <a:solidFill>
                  <a:srgbClr val="000000"/>
                </a:solidFill>
                <a:latin typeface="Calibri"/>
              </a:rPr>
              <a:t>Нигоҳ доштани ҷонибдорӣ ва тақвияти ислоҳоти  ҷории хоҷагии қишлоқ, хусусан татбиқи “озодии интихоби зироати кишт”,  додани шаҳодатномаи истифодабарии замин, тағийрот ба кодекси замин, реструктуризатсияи заминҳои кишт ва ғ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900" spc="-1" strike="noStrike">
                <a:solidFill>
                  <a:srgbClr val="000000"/>
                </a:solidFill>
                <a:latin typeface="Calibri"/>
              </a:rPr>
              <a:t>Таъмини риояи сиёсати нав аз ҷониби мақомоти идоракунии маҳаллӣ, яъне онҳо бояд ислоҳоти хоҷагии қишлоқро дастгирӣ намоянд ва  на ба сифати  “назоратчӣ”  аз болои фаъолияти деҳқонон назорат баранд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900" spc="-1" strike="noStrike">
                <a:solidFill>
                  <a:srgbClr val="000000"/>
                </a:solidFill>
                <a:latin typeface="Calibri"/>
              </a:rPr>
              <a:t>Кор карда баромадани нақшаҳои фаъолият барои тиҷорат, андозбандӣ, ислоҳоти лозимаи молиявии деҳот, ки дастрасии деҳқононро ба маводҳо, маблағгузориҳо, хизматрасониҳои машваратӣ, бозор, обёрӣ ва ғайра васеъ менамояд.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900" spc="-1" strike="noStrike">
                <a:solidFill>
                  <a:srgbClr val="000000"/>
                </a:solidFill>
                <a:latin typeface="Calibri"/>
              </a:rPr>
              <a:t>Ислоҳоти идоракунии давлатӣ дар маҳаллҳо (минтақаҳо ва ноҳияҳо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900" spc="-1" strike="noStrike">
                <a:solidFill>
                  <a:srgbClr val="000000"/>
                </a:solidFill>
                <a:latin typeface="Calibri"/>
              </a:rPr>
              <a:t>Мувофиқгардонӣ, ислоҳоти системаи дастгирии  хоҷагии қишлоқ  таъминоти мавод, хизматрасониҳои бозаргонӣ/коркарди маҳсулот/ машваратӣ/ омӯзишӣ, байторӣ – ба эҳтиёҷоти хоҷагиҳои хурди деҳқонӣ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оруми рушд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C532-61A2-4055-8CDD-EF9F1736D4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231BB7-FD2B-4C49-9FAE-825555DAF42A}" type="datetime10">
              <a:rPr b="0" lang="en-US" sz="1200" spc="-1" strike="noStrike">
                <a:solidFill>
                  <a:srgbClr val="898989"/>
                </a:solidFill>
                <a:latin typeface="Calibri"/>
              </a:rPr>
              <a:t>05:41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6B1E-92F6-40E0-AF99-937C6F14A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Афзалиятҳои асосӣ</a:t>
            </a:r>
            <a:r>
              <a:rPr b="0" lang="tg-Cyrl-TJ" sz="3400" spc="-1" strike="noStrike">
                <a:solidFill>
                  <a:srgbClr val="000000"/>
                </a:solidFill>
                <a:latin typeface="Calibri"/>
              </a:rPr>
              <a:t> барои солҳои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2011-1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400" spc="-1" strike="noStrike">
                <a:solidFill>
                  <a:srgbClr val="000000"/>
                </a:solidFill>
                <a:latin typeface="Calibri"/>
              </a:rPr>
              <a:t>Беҳтар намудани муҳит барои рушд ва инкишофи  соҳибкорӣ ва тиҷорат дар маҳалл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400" spc="-1" strike="noStrike">
                <a:solidFill>
                  <a:srgbClr val="000000"/>
                </a:solidFill>
                <a:latin typeface="Calibri"/>
              </a:rPr>
              <a:t>Ислоҳоти системаи обёрӣ ва идораи таъмиоти об мувофиқи эҳтиёҷи хоҷагиҳои деҳқонии хурд, ассотсиатсияҳои истифодабарандагони об  ва ғайраҳо , инчунин беҳтар намудани самаранокӣ ва маҳсулнок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400" spc="-1" strike="noStrike">
                <a:solidFill>
                  <a:srgbClr val="000000"/>
                </a:solidFill>
                <a:latin typeface="Calibri"/>
              </a:rPr>
              <a:t>Дастгирии рушди соҳаи тухмипарвар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400" spc="-1" strike="noStrike">
                <a:solidFill>
                  <a:srgbClr val="000000"/>
                </a:solidFill>
                <a:latin typeface="Calibri"/>
              </a:rPr>
              <a:t>Тақвияти фаъолият оиди баланд бардоштани иқтидор ва омӯзишҳои касбию техникӣ дар маҳаллҳо бо назардошти эҳтиёҷи хоҷагии қишло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оруми рушд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C022-028F-45CC-A264-F933264055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8EAA74-891A-449F-B5E1-33DCD12FD62F}" type="datetime10">
              <a:rPr b="0" lang="en-US" sz="1200" spc="-1" strike="noStrike">
                <a:solidFill>
                  <a:srgbClr val="898989"/>
                </a:solidFill>
                <a:latin typeface="Calibri"/>
              </a:rPr>
              <a:t>05:41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2E27-BD21-4D24-B87F-8B2F7B89A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3000" spc="-1" strike="noStrike">
                <a:solidFill>
                  <a:srgbClr val="000000"/>
                </a:solidFill>
                <a:latin typeface="Calibri"/>
              </a:rPr>
              <a:t>Дастгирии </a:t>
            </a:r>
            <a:r>
              <a:rPr b="0" lang="tg-Cyrl-TJ" sz="3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tg-Cyrl-TJ" sz="3000" spc="-1" strike="noStrike">
                <a:solidFill>
                  <a:srgbClr val="000000"/>
                </a:solidFill>
                <a:latin typeface="Calibri"/>
              </a:rPr>
              <a:t>арикони </a:t>
            </a:r>
            <a:r>
              <a:rPr b="0" lang="tg-Cyrl-TJ" sz="3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tg-Cyrl-TJ" sz="3000" spc="-1" strike="noStrike">
                <a:solidFill>
                  <a:srgbClr val="000000"/>
                </a:solidFill>
                <a:latin typeface="Calibri"/>
              </a:rPr>
              <a:t>ушд ба хоҷагии қишло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оруми рушд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3360" y="1155600"/>
          <a:ext cx="8083440" cy="4930920"/>
        </p:xfrm>
        <a:graphic>
          <a:graphicData uri="http://schemas.openxmlformats.org/drawingml/2006/table">
            <a:tbl>
              <a:tblPr/>
              <a:tblGrid>
                <a:gridCol w="3968640"/>
                <a:gridCol w="411480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g-Cyrl-TJ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ъолия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g-Cyrl-TJ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АРИКОНИ РУШ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g-Cyrl-TJ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рқарорсозии системаи обёрӣ ва дастгирии идоракунии самараноки об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g-Cyrl-TJ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инчунин идоракунии обёрӣ ва  рушди ҳавзаҳои дарёӣ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нки Аврупо оид ба азнавсози ва руш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нки исломии рушд,</a:t>
                      </a:r>
                      <a:r>
                        <a:rPr b="0" lang="tg-Cyrl-TJ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шкилоти Швейтсария оид ба ҳамкорӣ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САИ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g-Cyrl-TJ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зматрасониҳои молиявӣ барои хоҷагии қишлоқ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нки Аврупо оид ба азнавсози ва руш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шкилоти Олмон оид ба кумаки техник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нки исломии рушд,</a:t>
                      </a:r>
                      <a:r>
                        <a:rPr b="0" lang="tg-Cyrl-TJ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порасияи байналмиллалии молияв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g-Cyrl-TJ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зматрасониҳои молиявӣ барои хоҷагии қишлоқ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g-Cyrl-TJ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ъмини маводҳ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tg-Cyrl-TJ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хизматрасониҳои бозаргонӣ/коркард/ машваратӣ/ омӯзишӣ, байторӣ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tg-Cyrl-TJ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хми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g-Cyrl-TJ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зорати Британия Кабир иод ба рушди байналхалк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нки Аврупо оид ба азнавсози ва руш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tg-Cyrl-TJ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тиходи Авруп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O, Ташкилоти Олмон оид ба кумаки техник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порасияи байналмиллалии молиявй, Агентии Япония барои хамкории байналхалкй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СМ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САИ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g-Cyrl-TJ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лоҳоти замин, бақайдгирӣ ва кадаст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g-Cyrl-TJ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шкилоти Швейтсария оид ба ҳамкорӣ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САИ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g-Cyrl-TJ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шди ниҳодӣ , баланд бардоштани иқтидор дар вазоратҳо, дастгирии раванди ислоҳотӣ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O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СМ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САИ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99" name="Text Box 32"/>
          <p:cNvSpPr/>
          <p:nvPr/>
        </p:nvSpPr>
        <p:spPr>
          <a:xfrm>
            <a:off x="5176800" y="6291360"/>
            <a:ext cx="366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благгузори аз тарафи Хукумати Олмон</a:t>
            </a:r>
            <a:r>
              <a:rPr b="0" lang="de-DE" sz="1200" spc="-1" strike="noStrike">
                <a:solidFill>
                  <a:srgbClr val="ffffff"/>
                </a:solidFill>
                <a:latin typeface="Calibri"/>
              </a:rPr>
              <a:t> (BMZ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оруми рушд 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4D15-4A27-47BA-93C0-7B760A43F7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0254EE3-FEC5-42E8-82E9-8AC5508FA993}" type="datetime10">
              <a:rPr b="0" lang="en-US" sz="1200" spc="-1" strike="noStrike">
                <a:solidFill>
                  <a:srgbClr val="898989"/>
                </a:solidFill>
                <a:latin typeface="Calibri"/>
              </a:rPr>
              <a:t>05:41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2F6F-D500-4D0B-8052-32DB001CD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ёни маър</a:t>
            </a:r>
            <a:r>
              <a:rPr b="0" lang="tg-Cyrl-TJ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ӯ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Arial"/>
              </a:rPr>
              <a:t>Рахмат ба ди</a:t>
            </a:r>
            <a:r>
              <a:rPr b="1" lang="tg-Cyrl-TJ" sz="3200" spc="-1" strike="noStrike">
                <a:solidFill>
                  <a:srgbClr val="898989"/>
                </a:solidFill>
                <a:latin typeface="Arial"/>
              </a:rPr>
              <a:t>ққ</a:t>
            </a:r>
            <a:r>
              <a:rPr b="1" lang="ru-RU" sz="3200" spc="-1" strike="noStrike">
                <a:solidFill>
                  <a:srgbClr val="898989"/>
                </a:solidFill>
                <a:latin typeface="Arial"/>
              </a:rPr>
              <a:t>ататон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733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оруми рушд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4098-FA4E-4FA9-8E4F-B6C8B4F436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B42C2B-89C7-472A-9DD2-EDB3FED5759F}" type="datetime10">
              <a:rPr b="0" lang="en-US" sz="1200" spc="-1" strike="noStrike">
                <a:solidFill>
                  <a:srgbClr val="898989"/>
                </a:solidFill>
                <a:latin typeface="Calibri"/>
              </a:rPr>
              <a:t>05:41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1C7D-EE97-4166-91BF-CC40B130B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4400" spc="-1" strike="noStrike">
                <a:solidFill>
                  <a:srgbClr val="000000"/>
                </a:solidFill>
                <a:latin typeface="Calibri"/>
              </a:rPr>
              <a:t>Муҳити соҳибкорӣ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Arial"/>
              </a:rPr>
              <a:t>Маър</a:t>
            </a:r>
            <a:r>
              <a:rPr b="1" lang="tg-Cyrl-TJ" sz="3200" spc="-1" strike="noStrike">
                <a:solidFill>
                  <a:srgbClr val="898989"/>
                </a:solidFill>
                <a:latin typeface="Arial"/>
                <a:ea typeface="Times New Roman"/>
              </a:rPr>
              <a:t>ӯ</a:t>
            </a:r>
            <a:r>
              <a:rPr b="1" lang="ru-RU" sz="3200" spc="-1" strike="noStrike">
                <a:solidFill>
                  <a:srgbClr val="898989"/>
                </a:solidFill>
                <a:latin typeface="Arial"/>
              </a:rPr>
              <a:t>з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g-Cyrl-TJ" sz="3200" spc="-1" strike="noStrike">
                <a:solidFill>
                  <a:srgbClr val="898989"/>
                </a:solidFill>
                <a:latin typeface="Calibri"/>
              </a:rPr>
              <a:t>Ҷ</a:t>
            </a:r>
            <a:r>
              <a:rPr b="1" lang="tg-Cyrl-TJ" sz="3200" spc="-1" strike="noStrike">
                <a:solidFill>
                  <a:srgbClr val="898989"/>
                </a:solidFill>
                <a:latin typeface="Arial"/>
              </a:rPr>
              <a:t>эфрей Леҳрер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, </a:t>
            </a:r>
            <a:r>
              <a:rPr b="1" lang="ru-RU" sz="3200" spc="-1" strike="noStrike">
                <a:solidFill>
                  <a:srgbClr val="898989"/>
                </a:solidFill>
                <a:latin typeface="Arial"/>
              </a:rPr>
              <a:t>ЮСА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733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9C21-7CB0-4C3D-87BB-E5E0DA2B19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420316-7051-40A1-A38E-C1F0F0B43EAE}" type="datetime10">
              <a:rPr b="0" lang="en-US" sz="1200" spc="-1" strike="noStrike">
                <a:solidFill>
                  <a:srgbClr val="898989"/>
                </a:solidFill>
                <a:latin typeface="Calibri"/>
              </a:rPr>
              <a:t>05:41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35AF-39AA-4D1B-8834-492A60B61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4400" spc="-1" strike="noStrike">
                <a:solidFill>
                  <a:srgbClr val="000000"/>
                </a:solidFill>
                <a:latin typeface="Calibri"/>
              </a:rPr>
              <a:t>Дастовард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99680" y="1173240"/>
            <a:ext cx="8186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Calibri"/>
              </a:rPr>
              <a:t>ШҲД  б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ҳисоботи</a:t>
            </a:r>
            <a:r>
              <a:rPr b="0" lang="tg-Cyrl-TJ" sz="1800" spc="-1" strike="noStrike">
                <a:solidFill>
                  <a:srgbClr val="000000"/>
                </a:solidFill>
                <a:latin typeface="Calibri"/>
              </a:rPr>
              <a:t> хукумати ҶТ оиди дастовардҳои  тозае, ки дар мисоли давлати Тоҷикистон ҳамчун  ислоҳотчии асосии Бонки умумиҷаҳонӣ /МФК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g-Cyrl-TJ" sz="1800" spc="-1" strike="noStrike">
                <a:solidFill>
                  <a:srgbClr val="000000"/>
                </a:solidFill>
                <a:latin typeface="Calibri"/>
              </a:rPr>
              <a:t>Соҳибкорӣ 2011 арзёби карда мешавад, розӣ а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Calibri"/>
              </a:rPr>
              <a:t>Равзанаи ягона оғози фаъолияти соҳибкориро осонтар намуд, тағийротҳо ба қонун дар бораи муфлисшафӣ муддати таҳияи ҳуҷҷатҳоро кам кард, якумин бюрои қарздиҳӣ ба қайд гирифта шу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Calibri"/>
              </a:rPr>
              <a:t>Ислоҳоти Қонун дар бораи корхонаҳои муштарак  (аз январи соли 2010 амалӣ карда мешавад), ки шаффофияти  зиёдтарро  дар кори корхонаҳо тақозо менамояд , ҳифзи сармоягузороноро тақвият д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Calibri"/>
              </a:rPr>
              <a:t>Андоз аз фоидаи шахсони ҳуқуқӣ аз 25%  то 15% кам карда шуд (аз 1 уми январи соли 2009 ба эътибор мебарояд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Calibri"/>
              </a:rPr>
              <a:t>Лоиҳаи қонуни нави иҷозатномадиҳӣ  бо кам кардани шумораи умумии иҷозатномаҳо таҳия гардид ва ҳоло дар Ҳукумати ҶТ мавриди баррасӣ қарор дор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800" spc="-1" strike="noStrike">
                <a:solidFill>
                  <a:srgbClr val="000000"/>
                </a:solidFill>
                <a:latin typeface="Calibri"/>
              </a:rPr>
              <a:t>Ислоҳотҳои нав оиди оғоз намудани соҳибкорӣ, ҳифзи маблағгузорон, иҷозатномаҳо оиди сохтмон, бақайдгирии моликият, андозбандӣ, савдо, муомилоти бехавф, мавриди муҳокима/иҷроиш  қарор дора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оруми рушд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1520-F9E5-4462-982D-405E177209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BBF9D6-F235-4226-88CB-FC36AB4AB400}" type="datetime10">
              <a:rPr b="0" lang="en-US" sz="1200" spc="-1" strike="noStrike">
                <a:solidFill>
                  <a:srgbClr val="898989"/>
                </a:solidFill>
                <a:latin typeface="Calibri"/>
              </a:rPr>
              <a:t>05:41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66A2-1809-4073-8EFC-DFFBE33C6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4400" spc="-1" strike="noStrike">
                <a:solidFill>
                  <a:srgbClr val="000000"/>
                </a:solidFill>
                <a:latin typeface="Calibri"/>
              </a:rPr>
              <a:t>Мушкил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400" spc="-1" strike="noStrike">
                <a:solidFill>
                  <a:srgbClr val="000000"/>
                </a:solidFill>
                <a:latin typeface="Calibri"/>
              </a:rPr>
              <a:t>Мутобиқи меъёрҳои минтақавӣ ва умумиҷаҳонӣ, бахши хусусӣ дар Тоҷикистон ( 45%- и  ММД ) ва маблағгузории бахши хусусӣ ( 6% -и ММД) то ҳол ночиз а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400" spc="-1" strike="noStrike">
                <a:solidFill>
                  <a:srgbClr val="000000"/>
                </a:solidFill>
                <a:latin typeface="Calibri"/>
              </a:rPr>
              <a:t>Аз рӯи тадқиқотҳои соҳибкорӣ чунин монеъаҳои назаррас вучуд доран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000000"/>
                </a:solidFill>
                <a:latin typeface="Calibri"/>
              </a:rPr>
              <a:t>Таъминоти номунтазами барқ ва маҳдудияти фаслии о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000000"/>
                </a:solidFill>
                <a:latin typeface="Calibri"/>
              </a:rPr>
              <a:t>Дастрасии маҳдуд ва гаронии қарз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000000"/>
                </a:solidFill>
                <a:latin typeface="Calibri"/>
              </a:rPr>
              <a:t>Фоизи баланди андо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g-Cyrl-TJ" sz="2000" spc="-1" strike="noStrike">
                <a:solidFill>
                  <a:srgbClr val="000000"/>
                </a:solidFill>
                <a:latin typeface="Calibri"/>
              </a:rPr>
              <a:t>шумораи зиёди пардохти андози солона қонунҳои мураккаб оиди идоракунии андоз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000000"/>
                </a:solidFill>
                <a:latin typeface="Calibri"/>
              </a:rPr>
              <a:t>Ҳифзи нокифояи ҳуқуқҳои қонунӣ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000000"/>
                </a:solidFill>
                <a:latin typeface="Calibri"/>
              </a:rPr>
              <a:t>Дониш ва фаҳмиши пасти базаи ҳуқуқӣ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000000"/>
                </a:solidFill>
                <a:latin typeface="Calibri"/>
              </a:rPr>
              <a:t>Татбиқи номунтазами қонунҳо ва муқаррар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оруми рушд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E3EE-8438-45D3-AABD-22E7E21204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FB286F-71FE-47FD-A52E-33C9DC0CD0C9}" type="datetime10">
              <a:rPr b="0" lang="en-US" sz="1200" spc="-1" strike="noStrike">
                <a:solidFill>
                  <a:srgbClr val="898989"/>
                </a:solidFill>
                <a:latin typeface="Calibri"/>
              </a:rPr>
              <a:t>05:41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E321-BF3E-44EB-9883-7B71D5D70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4400" spc="-1" strike="noStrike">
                <a:solidFill>
                  <a:srgbClr val="000000"/>
                </a:solidFill>
                <a:latin typeface="Calibri"/>
              </a:rPr>
              <a:t>Мушкил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400" spc="-1" strike="noStrike">
                <a:solidFill>
                  <a:srgbClr val="000000"/>
                </a:solidFill>
                <a:latin typeface="Calibri"/>
              </a:rPr>
              <a:t>Нақши ҳукумат ҳамчун дар амал татбиқкунанда ва назоратчии рушди сектори хусусӣ на ба сифати банақшагиранда пурра фаҳмида ва қабул карда нашудаа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400" spc="-1" strike="noStrike">
                <a:solidFill>
                  <a:srgbClr val="000000"/>
                </a:solidFill>
                <a:latin typeface="Calibri"/>
              </a:rPr>
              <a:t>Норасоии иқтидор ва гоҳо иродаи сиёсии мақомотҳои  идоракунии марказӣ ва маҳаллӣ дар татбиқи ислоҳот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400" spc="-1" strike="noStrike">
                <a:solidFill>
                  <a:srgbClr val="000000"/>
                </a:solidFill>
                <a:latin typeface="Calibri"/>
              </a:rPr>
              <a:t>Кӯшиши пайваста ва доимии Ҳукумати ҶТ баҳри ҳалли ин мушкилот метавонад муҳти соҳибкорӣ ва ҷалби сармояро беҳтар намояд, ки он барои рушди кишвар хеле зарур ас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оруми рушд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B156-C68F-410B-A9D1-C9C10BEBA7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DCE5AD-1266-4FD2-88D9-52E02188D348}" type="datetime10">
              <a:rPr b="0" lang="en-US" sz="1200" spc="-1" strike="noStrike">
                <a:solidFill>
                  <a:srgbClr val="898989"/>
                </a:solidFill>
                <a:latin typeface="Calibri"/>
              </a:rPr>
              <a:t>05:41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77EB-D017-4CED-A000-FF0C98328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Афзалиятҳои асосӣ</a:t>
            </a:r>
            <a:r>
              <a:rPr b="0" lang="tg-Cyrl-TJ" sz="3400" spc="-1" strike="noStrike">
                <a:solidFill>
                  <a:srgbClr val="000000"/>
                </a:solidFill>
                <a:latin typeface="Calibri"/>
              </a:rPr>
              <a:t> барои солҳои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2011-1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g-Cyrl-TJ" sz="2000" spc="-1" strike="noStrike">
                <a:solidFill>
                  <a:srgbClr val="000000"/>
                </a:solidFill>
                <a:latin typeface="Calibri"/>
              </a:rPr>
              <a:t>Оғози фаъолияти соҳибкорӣ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tg-Cyrl-TJ" sz="2000" spc="-1" strike="noStrike">
                <a:solidFill>
                  <a:srgbClr val="000000"/>
                </a:solidFill>
                <a:latin typeface="Calibri"/>
              </a:rPr>
              <a:t> татбиқи пурраи Равзанаи Ягона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tg-Cyrl-TJ" sz="2000" spc="-1" strike="noStrike">
                <a:solidFill>
                  <a:srgbClr val="000000"/>
                </a:solidFill>
                <a:latin typeface="Calibri"/>
              </a:rPr>
              <a:t> ба воситаи ҷорӣ намудани истифодаи рақами ягонаи бақайдгирӣ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g-Cyrl-TJ" sz="2000" spc="-1" strike="noStrike">
                <a:solidFill>
                  <a:srgbClr val="000000"/>
                </a:solidFill>
                <a:latin typeface="Calibri"/>
              </a:rPr>
              <a:t>Қабул ва татбиқи қонун дар бораи иҷозатнома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000000"/>
                </a:solidFill>
                <a:latin typeface="Calibri"/>
              </a:rPr>
              <a:t>Андозбанд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tg-Cyrl-TJ" sz="2000" spc="-1" strike="noStrike">
                <a:solidFill>
                  <a:srgbClr val="000000"/>
                </a:solidFill>
                <a:latin typeface="Calibri"/>
              </a:rPr>
              <a:t>дар интихоби аудит истифодаи усул дар асоси эҳтимоли зиё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tg-Cyrl-TJ" sz="2000" spc="-1" strike="noStrike">
                <a:solidFill>
                  <a:srgbClr val="000000"/>
                </a:solidFill>
                <a:latin typeface="Calibri"/>
              </a:rPr>
              <a:t>сабук намудани идоракунии андоз тавассути содда намудани тартиботи мутобиқ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g-Cyrl-TJ" sz="2000" spc="-1" strike="noStrike">
                <a:solidFill>
                  <a:srgbClr val="000000"/>
                </a:solidFill>
                <a:latin typeface="Calibri"/>
              </a:rPr>
              <a:t>Тартиби амали гардонидани фаъолияти соҳибкорӣ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tg-Cyrl-TJ" sz="2000" spc="-1" strike="noStrike">
                <a:solidFill>
                  <a:srgbClr val="000000"/>
                </a:solidFill>
                <a:latin typeface="Calibri"/>
              </a:rPr>
              <a:t>давом додани татбиқи усули “ равзанаи ягона”  барои тиҷорат, кам намудани шумораи ҳуҷҷатҳои зарурӣ  барои воридот ва содиро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000" spc="-1" strike="noStrike">
                <a:solidFill>
                  <a:srgbClr val="000000"/>
                </a:solidFill>
                <a:latin typeface="Calibri"/>
              </a:rPr>
              <a:t>Суръат бахшидани ислоҳот дар Тоҷикстандарт бо мақсади мутобиқат бо Монеаҳои техникии ТУС ба талаботи савд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оруми рушд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D822-502D-4121-B045-F65BF49B14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19592D-BD6B-4AC7-9777-CB0DD7E36074}" type="datetime10">
              <a:rPr b="0" lang="en-US" sz="1200" spc="-1" strike="noStrike">
                <a:solidFill>
                  <a:srgbClr val="898989"/>
                </a:solidFill>
                <a:latin typeface="Calibri"/>
              </a:rPr>
              <a:t>05:41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4F60-1D6C-4E33-A5B2-25EEB970F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Афзалиятҳои асосӣ</a:t>
            </a:r>
            <a:r>
              <a:rPr b="0" lang="tg-Cyrl-TJ" sz="3400" spc="-1" strike="noStrike">
                <a:solidFill>
                  <a:srgbClr val="000000"/>
                </a:solidFill>
                <a:latin typeface="Calibri"/>
              </a:rPr>
              <a:t> барои солҳои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2011-1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g-Cyrl-TJ" sz="2200" spc="-1" strike="noStrike">
                <a:solidFill>
                  <a:srgbClr val="000000"/>
                </a:solidFill>
                <a:latin typeface="Calibri"/>
              </a:rPr>
              <a:t>Дастрасии мабла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tg-Cyrl-TJ" sz="2200" spc="-1" strike="noStrike">
                <a:solidFill>
                  <a:srgbClr val="000000"/>
                </a:solidFill>
                <a:latin typeface="Calibri"/>
              </a:rPr>
              <a:t>таҷдиди системаи гаравмонӣ ва истифодаи  моликияти манқул  ҳамчун гарав ва беҳтар гардонидани дастрасии СХ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g-Cyrl-TJ" sz="2200" spc="-1" strike="noStrike">
                <a:solidFill>
                  <a:srgbClr val="000000"/>
                </a:solidFill>
                <a:latin typeface="Calibri"/>
              </a:rPr>
              <a:t>ба қарзҳо, мутобиқ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ти озод</a:t>
            </a:r>
            <a:r>
              <a:rPr b="0" lang="tg-Cyrl-TJ" sz="2200" spc="-1" strike="noStrike">
                <a:solidFill>
                  <a:srgbClr val="000000"/>
                </a:solidFill>
                <a:latin typeface="Calibri"/>
              </a:rPr>
              <a:t> намудан аз ААИ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tg-Cyrl-TJ" sz="2200" spc="-1" strike="noStrike">
                <a:solidFill>
                  <a:srgbClr val="000000"/>
                </a:solidFill>
                <a:latin typeface="Calibri"/>
              </a:rPr>
              <a:t>барои таҷҳизоти иҷоравӣ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g-Cyrl-TJ" sz="2200" spc="-1" strike="noStrike">
                <a:solidFill>
                  <a:srgbClr val="000000"/>
                </a:solidFill>
                <a:latin typeface="Calibri"/>
              </a:rPr>
              <a:t>Бахши сохтмон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tg-Cyrl-TJ" sz="2200" spc="-1" strike="noStrike">
                <a:solidFill>
                  <a:srgbClr val="000000"/>
                </a:solidFill>
                <a:latin typeface="Calibri"/>
              </a:rPr>
              <a:t> татбиқи дигаргуниҳои ба система то ба имрӯз қабулшуда, аз нав дида баромадани базаи меъёрию ҳуқуқӣ баҳри кам кардани рӯиҳамоии ваколатҳо дар байни муассисаҳои ҳукумати Ҷ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200" spc="-1" strike="noStrike">
                <a:solidFill>
                  <a:srgbClr val="000000"/>
                </a:solidFill>
                <a:latin typeface="Calibri"/>
              </a:rPr>
              <a:t>Назорати раванди дар амал татбиқ намудани ислоҳотҳои дар ҳоли иҷроиш буда ва таъмини </a:t>
            </a:r>
            <a:r>
              <a:rPr b="1" lang="tg-Cyrl-TJ" sz="2200" spc="-1" strike="noStrike">
                <a:solidFill>
                  <a:srgbClr val="000000"/>
                </a:solidFill>
                <a:latin typeface="Calibri"/>
              </a:rPr>
              <a:t>дастрасии пурра ва шаффофи соҳибкорон ба кулли қоидаҳо ва муқаррароти нав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оруми рушд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136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3000" spc="-1" strike="noStrike">
                <a:solidFill>
                  <a:srgbClr val="000000"/>
                </a:solidFill>
                <a:latin typeface="Calibri"/>
              </a:rPr>
              <a:t>Дастгирии </a:t>
            </a:r>
            <a:r>
              <a:rPr b="0" lang="tg-Cyrl-TJ" sz="3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tg-Cyrl-TJ" sz="3000" spc="-1" strike="noStrike">
                <a:solidFill>
                  <a:srgbClr val="000000"/>
                </a:solidFill>
                <a:latin typeface="Calibri"/>
              </a:rPr>
              <a:t>арикони </a:t>
            </a:r>
            <a:r>
              <a:rPr b="0" lang="tg-Cyrl-TJ" sz="3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tg-Cyrl-TJ" sz="3000" spc="-1" strike="noStrike">
                <a:solidFill>
                  <a:srgbClr val="000000"/>
                </a:solidFill>
                <a:latin typeface="Calibri"/>
              </a:rPr>
              <a:t>ушд ба муҳити соҳибкор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оруми рушд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128600"/>
          <a:ext cx="8229600" cy="5119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g-Cyrl-TJ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ъолия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g-Cyrl-TJ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АРИКОНИ РУШ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g-Cyrl-TJ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заи қонунӣ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tg-Cyrl-TJ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меъёрию ҳуқуқӣ</a:t>
                      </a:r>
                      <a:r>
                        <a:rPr b="0" lang="tg-Cyrl-TJ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tg-Cyrl-TJ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ҳити соҳибкорӣ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дкикотхо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урои инвестицион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g-Cyrl-TJ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зорати Британия Кабир иод ба рушди байналхалкй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нки Аврупо оид ба азнавсози ва руш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орпорасияи байналмиллалии молиявй, </a:t>
                      </a:r>
                      <a:r>
                        <a:rPr b="0" lang="tg-Cyrl-TJ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шкилоти Швейтсария оид ба ҳамкорӣ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САИ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У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g-Cyrl-TJ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дозбандӣ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tg-Cyrl-TJ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ҷора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нки Аврупо оид ба азнавсози ва руш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tg-Cyrl-TJ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порасияи байналмиллалии молиявй, </a:t>
                      </a:r>
                      <a:r>
                        <a:rPr b="0" lang="tg-Cyrl-TJ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шкилоти Швейтсария оид ба ҳамкорӣ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СММ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САИ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g-Cyrl-TJ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Ҷалби сармоя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tg-Cyrl-TJ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шди сектори хусусӣ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tg-Cyrl-TJ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истемаи бонкӣ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</a:t>
                      </a:r>
                      <a:r>
                        <a:rPr b="0" lang="tg-Cyrl-TJ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tg-Cyrl-TJ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зорати Британия Кабир иод ба рушди байналхалкй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нки Аврупо оид ба азнавсози ва руш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tg-Cyrl-TJ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порасияи байналмиллалии молиявй,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САИД,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g-Cyrl-TJ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шди ниҳодӣ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</a:t>
                      </a:r>
                      <a:r>
                        <a:rPr b="0" lang="tg-Cyrl-TJ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баланд бардоштани иқтидор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tg-Cyrl-TJ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стгирии раванди сиёсат/ислоҳ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g-Cyrl-TJ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зорати Британия Кабир иод ба рушди байналхалкй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нки Аврупо оид ба азнавсози ва руш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орпорасияи байналмиллалии молиявй, </a:t>
                      </a:r>
                      <a:r>
                        <a:rPr b="0" lang="tg-Cyrl-TJ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шкилоти Швейтсария оид ба ҳамкорӣ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САИД, Б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оруми рушд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20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AB85-8CF1-4C15-B8EC-7CE8C4D74D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066D02-11EA-4D43-8FD5-827E4146BF69}" type="datetime10">
              <a:rPr b="0" lang="en-US" sz="1200" spc="-1" strike="noStrike">
                <a:solidFill>
                  <a:srgbClr val="898989"/>
                </a:solidFill>
                <a:latin typeface="Calibri"/>
              </a:rPr>
              <a:t>05:41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DD26-F18A-493F-A583-A1C4A43A5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4400" spc="-1" strike="noStrike">
                <a:solidFill>
                  <a:srgbClr val="000000"/>
                </a:solidFill>
                <a:latin typeface="Calibri"/>
              </a:rPr>
              <a:t>Хоҷагии қишло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Arial"/>
              </a:rPr>
              <a:t>Маър</a:t>
            </a:r>
            <a:r>
              <a:rPr b="1" lang="tg-Cyrl-TJ" sz="3200" spc="-1" strike="noStrike">
                <a:solidFill>
                  <a:srgbClr val="898989"/>
                </a:solidFill>
                <a:latin typeface="Arial"/>
                <a:ea typeface="Times New Roman"/>
              </a:rPr>
              <a:t>ӯ</a:t>
            </a:r>
            <a:r>
              <a:rPr b="1" lang="ru-RU" sz="3200" spc="-1" strike="noStrike">
                <a:solidFill>
                  <a:srgbClr val="898989"/>
                </a:solidFill>
                <a:latin typeface="Arial"/>
              </a:rPr>
              <a:t>зач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Arial"/>
              </a:rPr>
              <a:t>Нассим </a:t>
            </a:r>
            <a:r>
              <a:rPr b="1" lang="tg-Cyrl-TJ" sz="3200" spc="-1" strike="noStrike">
                <a:solidFill>
                  <a:srgbClr val="898989"/>
                </a:solidFill>
                <a:latin typeface="Calibri"/>
              </a:rPr>
              <a:t>Ҷ</a:t>
            </a:r>
            <a:r>
              <a:rPr b="1" lang="tg-Cyrl-TJ" sz="3200" spc="-1" strike="noStrike">
                <a:solidFill>
                  <a:srgbClr val="898989"/>
                </a:solidFill>
                <a:latin typeface="Arial"/>
              </a:rPr>
              <a:t>авад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, </a:t>
            </a:r>
            <a:r>
              <a:rPr b="1" lang="ru-RU" sz="3200" spc="-1" strike="noStrike">
                <a:solidFill>
                  <a:srgbClr val="898989"/>
                </a:solidFill>
                <a:latin typeface="Arial"/>
              </a:rPr>
              <a:t>ФА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733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6:21:56Z</dcterms:created>
  <dc:creator>User</dc:creator>
  <dc:description/>
  <dc:language>en-US</dc:language>
  <cp:lastModifiedBy>TJRM Mission</cp:lastModifiedBy>
  <dcterms:modified xsi:type="dcterms:W3CDTF">2010-12-01T08:44:59Z</dcterms:modified>
  <cp:revision>220</cp:revision>
  <dc:subject/>
  <dc:title>Energy &amp; infrastru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lications">
    <vt:lpwstr>182;#Office XP;#65;#Microsoft Office PowerPoint 2007;#184;#Office 2000;#64;#PowerPoint 2003;#79;#Template 12</vt:lpwstr>
  </property>
  <property fmtid="{D5CDD505-2E9C-101B-9397-08002B2CF9AE}" pid="6" name="Approval Level">
    <vt:lpwstr/>
  </property>
  <property fmtid="{D5CDD505-2E9C-101B-9397-08002B2CF9AE}" pid="7" name="AssetId">
    <vt:lpwstr>TS001164981</vt:lpwstr>
  </property>
  <property fmtid="{D5CDD505-2E9C-101B-9397-08002B2CF9AE}" pid="8" name="AssetType">
    <vt:lpwstr>TP</vt:lpwstr>
  </property>
  <property fmtid="{D5CDD505-2E9C-101B-9397-08002B2CF9AE}" pid="9" name="Assigned To">
    <vt:lpwstr/>
  </property>
  <property fmtid="{D5CDD505-2E9C-101B-9397-08002B2CF9AE}" pid="10" name="AuthoringAssetId">
    <vt:lpwstr>TP001164981</vt:lpwstr>
  </property>
  <property fmtid="{D5CDD505-2E9C-101B-9397-08002B2CF9AE}" pid="11" name="Categories">
    <vt:lpwstr/>
  </property>
  <property fmtid="{D5CDD505-2E9C-101B-9397-08002B2CF9AE}" pid="12" name="Content Type">
    <vt:lpwstr>OOFile</vt:lpwstr>
  </property>
  <property fmtid="{D5CDD505-2E9C-101B-9397-08002B2CF9AE}" pid="13" name="ContentTypeId">
    <vt:lpwstr>0x0101006025706CF4CD034688BEBAE97A2E701D020200C3831ACA17D8814887A164412888521E</vt:lpwstr>
  </property>
  <property fmtid="{D5CDD505-2E9C-101B-9397-08002B2CF9AE}" pid="14" name="IsDeleted">
    <vt:lpwstr>0</vt:lpwstr>
  </property>
  <property fmtid="{D5CDD505-2E9C-101B-9397-08002B2CF9AE}" pid="15" name="IsSearchable">
    <vt:lpwstr>0</vt:lpwstr>
  </property>
  <property fmtid="{D5CDD505-2E9C-101B-9397-08002B2CF9AE}" pid="16" name="Keywords">
    <vt:lpwstr/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.00000000000000</vt:lpwstr>
  </property>
  <property fmtid="{D5CDD505-2E9C-101B-9397-08002B2CF9AE}" pid="20" name="OpenTemplate">
    <vt:lpwstr>1</vt:lpwstr>
  </property>
  <property fmtid="{D5CDD505-2E9C-101B-9397-08002B2CF9AE}" pid="21" name="PrimaryImageGen">
    <vt:lpwstr>1</vt:lpwstr>
  </property>
  <property fmtid="{D5CDD505-2E9C-101B-9397-08002B2CF9AE}" pid="22" name="Provider">
    <vt:lpwstr>EY006220130</vt:lpwstr>
  </property>
  <property fmtid="{D5CDD505-2E9C-101B-9397-08002B2CF9AE}" pid="23" name="PublishStatusLookup">
    <vt:lpwstr>271516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lides">
    <vt:lpwstr>22</vt:lpwstr>
  </property>
  <property fmtid="{D5CDD505-2E9C-101B-9397-08002B2CF9AE}" pid="27" name="SourceTitle">
    <vt:lpwstr>Training presentation: OneNote 2003—Audio and video notes</vt:lpwstr>
  </property>
  <property fmtid="{D5CDD505-2E9C-101B-9397-08002B2CF9AE}" pid="28" name="Subject">
    <vt:lpwstr/>
  </property>
  <property fmtid="{D5CDD505-2E9C-101B-9397-08002B2CF9AE}" pid="29" name="TPAppVersion">
    <vt:lpwstr>11</vt:lpwstr>
  </property>
  <property fmtid="{D5CDD505-2E9C-101B-9397-08002B2CF9AE}" pid="30" name="TPApplication">
    <vt:lpwstr>PowerPoint</vt:lpwstr>
  </property>
  <property fmtid="{D5CDD505-2E9C-101B-9397-08002B2CF9AE}" pid="31" name="TPClientViewer">
    <vt:lpwstr>Microsoft Office PowerPoint</vt:lpwstr>
  </property>
  <property fmtid="{D5CDD505-2E9C-101B-9397-08002B2CF9AE}" pid="32" name="TPCommandLine">
    <vt:lpwstr>{PP} /n {FilePath}</vt:lpwstr>
  </property>
  <property fmtid="{D5CDD505-2E9C-101B-9397-08002B2CF9AE}" pid="33" name="TPComponent">
    <vt:lpwstr>PPTFiles</vt:lpwstr>
  </property>
  <property fmtid="{D5CDD505-2E9C-101B-9397-08002B2CF9AE}" pid="34" name="TPFriendlyName">
    <vt:lpwstr>Training presentation: OneNote 2003—Audio and video notes</vt:lpwstr>
  </property>
  <property fmtid="{D5CDD505-2E9C-101B-9397-08002B2CF9AE}" pid="35" name="TPInstallLocation">
    <vt:lpwstr>{My Templates}</vt:lpwstr>
  </property>
  <property fmtid="{D5CDD505-2E9C-101B-9397-08002B2CF9AE}" pid="36" name="TPLaunchHelpLink">
    <vt:lpwstr/>
  </property>
  <property fmtid="{D5CDD505-2E9C-101B-9397-08002B2CF9AE}" pid="37" name="TPLaunchHelpLinkType">
    <vt:lpwstr>Template</vt:lpwstr>
  </property>
  <property fmtid="{D5CDD505-2E9C-101B-9397-08002B2CF9AE}" pid="38" name="TPNamespace">
    <vt:lpwstr>POWERPNT</vt:lpwstr>
  </property>
  <property fmtid="{D5CDD505-2E9C-101B-9397-08002B2CF9AE}" pid="39" name="TemplateStatus">
    <vt:lpwstr>Ready for publish</vt:lpwstr>
  </property>
  <property fmtid="{D5CDD505-2E9C-101B-9397-08002B2CF9AE}" pid="40" name="TrustLevel">
    <vt:lpwstr>Microsoft Managed Content</vt:lpwstr>
  </property>
  <property fmtid="{D5CDD505-2E9C-101B-9397-08002B2CF9AE}" pid="41" name="UACurrentWords">
    <vt:lpwstr>0</vt:lpwstr>
  </property>
  <property fmtid="{D5CDD505-2E9C-101B-9397-08002B2CF9AE}" pid="42" name="UALocRecommendation">
    <vt:lpwstr>Localize</vt:lpwstr>
  </property>
  <property fmtid="{D5CDD505-2E9C-101B-9397-08002B2CF9AE}" pid="43" name="_Author">
    <vt:lpwstr>Microsoft Corporation</vt:lpwstr>
  </property>
  <property fmtid="{D5CDD505-2E9C-101B-9397-08002B2CF9AE}" pid="44" name="_Category">
    <vt:lpwstr/>
  </property>
  <property fmtid="{D5CDD505-2E9C-101B-9397-08002B2CF9AE}" pid="45" name="_Comments">
    <vt:lpwstr/>
  </property>
  <property fmtid="{D5CDD505-2E9C-101B-9397-08002B2CF9AE}" pid="46" name="_Status">
    <vt:lpwstr/>
  </property>
  <property fmtid="{D5CDD505-2E9C-101B-9397-08002B2CF9AE}" pid="47" name="display_urn:schemas-microsoft-com:office:office#APAuthor">
    <vt:lpwstr>REDMOND\cynvey</vt:lpwstr>
  </property>
  <property fmtid="{D5CDD505-2E9C-101B-9397-08002B2CF9AE}" pid="48" name="display_urn:schemas-microsoft-com:office:office#APEditor">
    <vt:lpwstr>REDMOND\v-luannv</vt:lpwstr>
  </property>
</Properties>
</file>