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0B8AE0-4E4E-4C91-81DE-56A6596F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F1D4A6-8240-4E8F-B4BD-8A37F220E5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3035E2-D747-4A5C-9A20-F98A6805EA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326-F943-4C89-A8DA-7FE6344085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A4707D-EE0F-40DB-9999-8F759846A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555452-E081-406C-B6FF-D87988FD1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C6741C-2A02-4CC0-958A-1D49C7A513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5C88CC-780D-41F3-831D-C9B6734694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BBE830-41B5-4CCB-91C1-51A26B50B6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C1CEC3-3FA3-4E3C-BA70-5DBC164C86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6C35DC-7A0F-449F-B2FB-E44064CEFF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progress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C Secretari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od donor coordination in support to Agricultural Reform, Health Strategy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ergy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to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te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ply and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itation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ancial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tor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PFM, B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iness Clima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rans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rete initiativ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PC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B/EU MoU on Social Prot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TI Review 2010 in Educ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Joint Program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Missions: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B-ADB Joint Country Portfolio Performance Review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level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GP supported by DFID, GTZ/BMZ, UNDP and IOM</a:t>
            </a:r>
            <a:br>
              <a:rPr sz="900"/>
            </a:br>
            <a:r>
              <a:rPr b="0" lang="en-US" sz="9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and number of initiatives is grow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xamples of JCPS Partner efforts to improve aid coordination and effectiveness, include (from GTZ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aling up – GTZ/BMZ scaled up SME promotion, vocational education and training, microfi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lti-partner missions - DfID, GTZ/BMZ, UNDP, IOM under Rural Growth Program; FTI Review 2010 jointly: GTZ, WB, EU, UICEF, USAID, A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702ACE-316F-4347-BF44-733B603F7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73C-7DE8-47F2-AFDE-C74BB955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6E9-5301-47BD-ADAE-1842625F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3CE-017E-4677-9B4A-E72FDF1D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6AA-D798-4A2D-8F90-B2B42522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2928-DF88-454A-BC35-2F0E265A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B632-E1EB-4228-8B72-DC353B9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DA1E-C135-4F53-85AD-AE4EA737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1C9A-497C-484F-80CA-BFAFEE50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01C-F490-44E6-BE28-0FA64E91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F95A-6760-439D-B6FF-04868013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3A03-CC74-4713-9777-2D4F48FF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C146-E4E4-4AB4-99E6-BB3236AA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7098-73C7-4882-A0A1-42A51992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D86B-3F7F-4C74-B220-05C159F4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EDB0-CF81-4D23-83A0-92AF7243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0AA5-0D3A-467E-A750-31FD5AE8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1823-6376-417D-800E-00360CDF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B5EA-6231-4761-AFF2-28CF764F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F9F7-C99B-42DF-994E-F24384E5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F5FD-8195-4980-ABA1-71C21B92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E31C-6F86-4D99-8D60-6DE509D1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1E4D8-A023-4E04-A429-41962529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11E-07CD-4DE3-BF4A-1E91BCFB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C10B-7939-4D4D-B6C9-E94AEC14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66EC-FAA3-403B-ACEB-0D9E5C12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13B18-33AC-4778-997E-67435069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E683-F1CD-4189-8504-6F69916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2D9B-31FD-4119-AEFA-F67DC45E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733D-77F8-4522-B00B-758BC28F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0EF7-E762-4327-8A99-866DBB19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C5C-0F76-46A9-9AF9-7572CC08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DB21-7E8D-4151-AB4F-6A24E44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8F1-BB7A-4A58-86ED-FFA5FA50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D0D-9C9E-4CA3-8E0F-401ED072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34C-EA60-4594-B6FF-1A837F3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F61-6703-488B-8117-9D8AF47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0A82-EB99-4A58-B843-EF8A55EF93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0 Development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DE2D-267E-4D0A-871C-9426F0492F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4B4D-FC5D-4C0F-A0BB-01C301C2D2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19080" y="3828960"/>
            <a:ext cx="9163080" cy="302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2333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97240"/>
            <a:ext cx="777240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oint Country Partnership Strategy: Progress and Prosp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91080" y="4781520"/>
            <a:ext cx="432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CC Pres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astislav Vrbensky, UND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velopment Fo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-4 December, 2010 - Dushanbe, Tajiki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heck against delive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48A4-EECD-44D2-B70F-E65FD2F14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for way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overnment in driver’s se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tter coordination of government planning/budgeting and development partner financial and technical aid commitment/disbursement cycles – to reduce discrepancies between NDS, PRS, Sector Strategy priorities and financial allocation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reater use of program-based and/or sector-wide approaches (SWAp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duced transaction costs for both government and development partner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mproved national capacity – leading to enhanced national ownershi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gular, structured dialogue and interaction between government and development partner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5E9F-1C53-40CB-B5C9-7A2575F49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riorities 2011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Forum Action Plan provides operational framework for joint GoT-JCPS partner commitmen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duct joint GoT-DCC meetings quarterly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as needed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view quarterly reports on progress of Development Forum Action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 DCC/JCPS work program to further strengthen aid coordination and effectiveness, inclu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tend DCC/JCPS membership/part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include all new and traditional development partn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cure sustainable financ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DCC secretariat beyond August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nitor progres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sector groups quarter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itiate regular DCC dialog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non-government organizations (NGOs), national and international – e.g. quarter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ssess impact of JCP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linked to Paris Declaration monitoring process commencing December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9A54-F484-4037-8120-A9BF5A0AC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End of prese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hank you for your atten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F037-4BAD-412E-BE70-F452C1FF2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c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Diagram 2" descr=""/>
          <p:cNvPicPr/>
          <p:nvPr/>
        </p:nvPicPr>
        <p:blipFill>
          <a:blip r:embed="rId1"/>
          <a:stretch/>
        </p:blipFill>
        <p:spPr>
          <a:xfrm>
            <a:off x="749160" y="1457280"/>
            <a:ext cx="737712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B96-76DC-4BB5-8706-F02BF351A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oint Country Partnership Strategy (JCPS) is a direct outcome of last Development Forum (June 200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CPS was conceptualized as driver of local aid coordination efforts and link to global aid effectiveness processes (2005 Paris Declaration, 2008 Accra Agenda for A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ed by government representatives and heads of core group of aid agenc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leted and signed on 2 November 2009 by Government and twelve development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CC cordially invites all Tajikistan’s development partners, new and traditional, to join JCPS activities and proces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A8D7-9981-40E7-9A66-FB0D01983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 and JCPS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con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jikistan’s development strate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d effectiveness and coordin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CPS partners’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es for improved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red principles of aid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5F1-FE6D-4185-B5FD-3A3119243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Strateg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.e. Tajikistan’s National Development Strategy 2008-15 and related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verty Reduction Strategy 2010-12 (PRS-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Coordinating Mechanis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.e. Donor Coordination Council (DCC) – on behalf of development partners – will interact with State Committee on Investment and State Property Management (SCISPM) – on behalf of Government and other ministries, agencies and instit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 Monitoring and Evaluation and Results Framework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ed to PRS-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8A98-7B47-4C4F-B75D-74FD78DB8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PS part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a Khan Foundation Tajikis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ian Development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Bank for Reconstruction and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ization for Security and Cooperation in Europe Office in Tajikis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edish International Development Cooperation Ag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iss Cooperation Office (SDC and SEC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vernment of Tajikis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K Department for Internation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ed Nations 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ed States Agency for International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 Bank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6EA7-99F7-424F-A606-B253787F6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PS partners’ commi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63" name="Group 51"/>
          <p:cNvGrpSpPr/>
          <p:nvPr/>
        </p:nvGrpSpPr>
        <p:grpSpPr>
          <a:xfrm>
            <a:off x="604800" y="1719360"/>
            <a:ext cx="7927920" cy="4530600"/>
            <a:chOff x="604800" y="1719360"/>
            <a:chExt cx="7927920" cy="4530600"/>
          </a:xfrm>
        </p:grpSpPr>
        <p:grpSp>
          <p:nvGrpSpPr>
            <p:cNvPr id="164" name="Group 50"/>
            <p:cNvGrpSpPr/>
            <p:nvPr/>
          </p:nvGrpSpPr>
          <p:grpSpPr>
            <a:xfrm>
              <a:off x="604800" y="1719360"/>
              <a:ext cx="7927920" cy="4530600"/>
              <a:chOff x="604800" y="1719360"/>
              <a:chExt cx="7927920" cy="4530600"/>
            </a:xfrm>
          </p:grpSpPr>
          <p:sp>
            <p:nvSpPr>
              <p:cNvPr id="165" name="Rectangle 36"/>
              <p:cNvSpPr/>
              <p:nvPr/>
            </p:nvSpPr>
            <p:spPr>
              <a:xfrm>
                <a:off x="604800" y="1719360"/>
                <a:ext cx="6931080" cy="83484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6" name="Rectangle 37"/>
              <p:cNvSpPr/>
              <p:nvPr/>
            </p:nvSpPr>
            <p:spPr>
              <a:xfrm>
                <a:off x="7535880" y="1719360"/>
                <a:ext cx="996840" cy="83484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7" name="Rectangle 40"/>
              <p:cNvSpPr/>
              <p:nvPr/>
            </p:nvSpPr>
            <p:spPr>
              <a:xfrm>
                <a:off x="604800" y="2554200"/>
                <a:ext cx="6931080" cy="142056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8" name="Rectangle 41"/>
              <p:cNvSpPr/>
              <p:nvPr/>
            </p:nvSpPr>
            <p:spPr>
              <a:xfrm>
                <a:off x="7535880" y="2554200"/>
                <a:ext cx="996840" cy="142056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9" name="Rectangle 48"/>
              <p:cNvSpPr/>
              <p:nvPr/>
            </p:nvSpPr>
            <p:spPr>
              <a:xfrm>
                <a:off x="604800" y="3981600"/>
                <a:ext cx="6931080" cy="120312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0" name="Rectangle 49"/>
              <p:cNvSpPr/>
              <p:nvPr/>
            </p:nvSpPr>
            <p:spPr>
              <a:xfrm>
                <a:off x="7535880" y="3981600"/>
                <a:ext cx="996840" cy="120312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604800" y="5195880"/>
                <a:ext cx="6931080" cy="1042920"/>
              </a:xfrm>
              <a:prstGeom prst="rect">
                <a:avLst/>
              </a:prstGeom>
              <a:gradFill rotWithShape="0">
                <a:gsLst>
                  <a:gs pos="0">
                    <a:srgbClr val="bfbfbf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2" name="Rectangle 53"/>
              <p:cNvSpPr/>
              <p:nvPr/>
            </p:nvSpPr>
            <p:spPr>
              <a:xfrm>
                <a:off x="7535880" y="5195880"/>
                <a:ext cx="996840" cy="1054080"/>
              </a:xfrm>
              <a:prstGeom prst="rect">
                <a:avLst/>
              </a:prstGeom>
              <a:gradFill rotWithShape="0">
                <a:gsLst>
                  <a:gs pos="0">
                    <a:srgbClr val="d9d9d9"/>
                  </a:gs>
                  <a:gs pos="100000">
                    <a:srgbClr val="404040"/>
                  </a:gs>
                </a:gsLst>
                <a:lin ang="5400000"/>
              </a:gradFill>
              <a:ln w="9360">
                <a:solidFill>
                  <a:srgbClr val="40404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3" name="Rektangel 109"/>
            <p:cNvSpPr/>
            <p:nvPr/>
          </p:nvSpPr>
          <p:spPr>
            <a:xfrm>
              <a:off x="1083960" y="1733400"/>
              <a:ext cx="4759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Define/update DCC agenda(s) and work program for 2009-10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,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including assignment of responsibility for JCPS follow-up action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Rektangel 109"/>
            <p:cNvSpPr/>
            <p:nvPr/>
          </p:nvSpPr>
          <p:spPr>
            <a:xfrm>
              <a:off x="1083960" y="2665440"/>
              <a:ext cx="4759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Reinforce existing and revi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e new DCC sector/thematic working groups with agreed mandates, work programmes and timelines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– linked 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to agreed PRS-related sector/thematic strategic objectives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– with 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rovision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for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periodic reporting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Rektangel 109"/>
            <p:cNvSpPr/>
            <p:nvPr/>
          </p:nvSpPr>
          <p:spPr>
            <a:xfrm>
              <a:off x="1083960" y="4010040"/>
              <a:ext cx="4759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Continue/initiate DCC dialogue with new development partners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, e.g. 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China, Iran, IDB, Kazakhstan, Kuwait Fund, Russia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, 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and invite their participation in DCC agenda, process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,</a:t>
              </a: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etc.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Rektangel 109"/>
            <p:cNvSpPr/>
            <p:nvPr/>
          </p:nvSpPr>
          <p:spPr>
            <a:xfrm>
              <a:off x="1083960" y="5181840"/>
              <a:ext cx="47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Establish permanent DCC Secretariat, including secure financing</a:t>
              </a:r>
              <a:endParaRPr b="0" lang="en-US" sz="1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7" name="TextBox 29"/>
          <p:cNvSpPr/>
          <p:nvPr/>
        </p:nvSpPr>
        <p:spPr>
          <a:xfrm>
            <a:off x="6167520" y="19368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Jan 2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extBox 30"/>
          <p:cNvSpPr/>
          <p:nvPr/>
        </p:nvSpPr>
        <p:spPr>
          <a:xfrm>
            <a:off x="6195960" y="30574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ngo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TextBox 30"/>
          <p:cNvSpPr/>
          <p:nvPr/>
        </p:nvSpPr>
        <p:spPr>
          <a:xfrm>
            <a:off x="6210360" y="443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ngo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Box 32"/>
          <p:cNvSpPr/>
          <p:nvPr/>
        </p:nvSpPr>
        <p:spPr>
          <a:xfrm>
            <a:off x="6113520" y="545148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p 201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Freeform 150"/>
          <p:cNvGrpSpPr/>
          <p:nvPr/>
        </p:nvGrpSpPr>
        <p:grpSpPr>
          <a:xfrm>
            <a:off x="7748640" y="1841400"/>
            <a:ext cx="487440" cy="590760"/>
            <a:chOff x="7748640" y="1841400"/>
            <a:chExt cx="487440" cy="590760"/>
          </a:xfrm>
        </p:grpSpPr>
        <p:pic>
          <p:nvPicPr>
            <p:cNvPr id="182" name="Freeform 150" descr=""/>
            <p:cNvPicPr/>
            <p:nvPr/>
          </p:nvPicPr>
          <p:blipFill>
            <a:blip r:embed="rId1"/>
            <a:stretch/>
          </p:blipFill>
          <p:spPr>
            <a:xfrm>
              <a:off x="7748640" y="1841400"/>
              <a:ext cx="48744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7810560" y="1874880"/>
              <a:ext cx="368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4" name="Freeform 150"/>
          <p:cNvGrpSpPr/>
          <p:nvPr/>
        </p:nvGrpSpPr>
        <p:grpSpPr>
          <a:xfrm>
            <a:off x="7785000" y="5389560"/>
            <a:ext cx="480960" cy="590400"/>
            <a:chOff x="7785000" y="5389560"/>
            <a:chExt cx="480960" cy="590400"/>
          </a:xfrm>
        </p:grpSpPr>
        <p:pic>
          <p:nvPicPr>
            <p:cNvPr id="185" name="Freeform 150" descr=""/>
            <p:cNvPicPr/>
            <p:nvPr/>
          </p:nvPicPr>
          <p:blipFill>
            <a:blip r:embed="rId2"/>
            <a:stretch/>
          </p:blipFill>
          <p:spPr>
            <a:xfrm>
              <a:off x="7785000" y="5389560"/>
              <a:ext cx="4809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845480" y="5425920"/>
              <a:ext cx="368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87" name="Group 25"/>
          <p:cNvGrpSpPr/>
          <p:nvPr/>
        </p:nvGrpSpPr>
        <p:grpSpPr>
          <a:xfrm>
            <a:off x="7932240" y="3009960"/>
            <a:ext cx="171720" cy="523800"/>
            <a:chOff x="7932240" y="3009960"/>
            <a:chExt cx="171720" cy="523800"/>
          </a:xfrm>
        </p:grpSpPr>
        <p:sp>
          <p:nvSpPr>
            <p:cNvPr id="188" name="Freeform 6"/>
            <p:cNvSpPr/>
            <p:nvPr/>
          </p:nvSpPr>
          <p:spPr>
            <a:xfrm flipH="1">
              <a:off x="7959600" y="3434040"/>
              <a:ext cx="120960" cy="99720"/>
            </a:xfrm>
            <a:custGeom>
              <a:avLst/>
              <a:gdLst>
                <a:gd name="textAreaLeft" fmla="*/ 360 w 120960"/>
                <a:gd name="textAreaRight" fmla="*/ 121680 w 1209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96" h="94">
                  <a:moveTo>
                    <a:pt x="82" y="14"/>
                  </a:moveTo>
                  <a:lnTo>
                    <a:pt x="82" y="14"/>
                  </a:lnTo>
                  <a:lnTo>
                    <a:pt x="74" y="8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2" y="86"/>
                  </a:lnTo>
                  <a:lnTo>
                    <a:pt x="30" y="90"/>
                  </a:lnTo>
                  <a:lnTo>
                    <a:pt x="38" y="92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58" y="92"/>
                  </a:lnTo>
                  <a:lnTo>
                    <a:pt x="66" y="90"/>
                  </a:lnTo>
                  <a:lnTo>
                    <a:pt x="74" y="86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8" y="72"/>
                  </a:lnTo>
                  <a:lnTo>
                    <a:pt x="92" y="64"/>
                  </a:lnTo>
                  <a:lnTo>
                    <a:pt x="94" y="56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4" y="38"/>
                  </a:lnTo>
                  <a:lnTo>
                    <a:pt x="92" y="28"/>
                  </a:lnTo>
                  <a:lnTo>
                    <a:pt x="88" y="20"/>
                  </a:lnTo>
                  <a:lnTo>
                    <a:pt x="82" y="14"/>
                  </a:lnTo>
                  <a:lnTo>
                    <a:pt x="82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Freeform 7"/>
            <p:cNvSpPr/>
            <p:nvPr/>
          </p:nvSpPr>
          <p:spPr>
            <a:xfrm flipH="1">
              <a:off x="7931880" y="3009960"/>
              <a:ext cx="171720" cy="380880"/>
            </a:xfrm>
            <a:custGeom>
              <a:avLst/>
              <a:gdLst>
                <a:gd name="textAreaLeft" fmla="*/ -360 w 171720"/>
                <a:gd name="textAreaRight" fmla="*/ 171720 w 1717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34" h="356">
                  <a:moveTo>
                    <a:pt x="44" y="356"/>
                  </a:moveTo>
                  <a:lnTo>
                    <a:pt x="86" y="356"/>
                  </a:lnTo>
                  <a:lnTo>
                    <a:pt x="86" y="356"/>
                  </a:lnTo>
                  <a:lnTo>
                    <a:pt x="100" y="262"/>
                  </a:lnTo>
                  <a:lnTo>
                    <a:pt x="116" y="164"/>
                  </a:lnTo>
                  <a:lnTo>
                    <a:pt x="116" y="164"/>
                  </a:lnTo>
                  <a:lnTo>
                    <a:pt x="128" y="84"/>
                  </a:lnTo>
                  <a:lnTo>
                    <a:pt x="134" y="46"/>
                  </a:lnTo>
                  <a:lnTo>
                    <a:pt x="134" y="46"/>
                  </a:lnTo>
                  <a:lnTo>
                    <a:pt x="132" y="38"/>
                  </a:lnTo>
                  <a:lnTo>
                    <a:pt x="128" y="28"/>
                  </a:lnTo>
                  <a:lnTo>
                    <a:pt x="122" y="20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04" y="8"/>
                  </a:lnTo>
                  <a:lnTo>
                    <a:pt x="92" y="4"/>
                  </a:lnTo>
                  <a:lnTo>
                    <a:pt x="8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40" y="4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0" y="20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84"/>
                  </a:lnTo>
                  <a:lnTo>
                    <a:pt x="16" y="164"/>
                  </a:lnTo>
                  <a:lnTo>
                    <a:pt x="16" y="164"/>
                  </a:lnTo>
                  <a:lnTo>
                    <a:pt x="32" y="262"/>
                  </a:lnTo>
                  <a:lnTo>
                    <a:pt x="44" y="356"/>
                  </a:lnTo>
                  <a:lnTo>
                    <a:pt x="44" y="35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7932240" y="4282920"/>
            <a:ext cx="171720" cy="524160"/>
            <a:chOff x="7932240" y="4282920"/>
            <a:chExt cx="171720" cy="524160"/>
          </a:xfrm>
        </p:grpSpPr>
        <p:sp>
          <p:nvSpPr>
            <p:cNvPr id="191" name="Freeform 6"/>
            <p:cNvSpPr/>
            <p:nvPr/>
          </p:nvSpPr>
          <p:spPr>
            <a:xfrm flipH="1">
              <a:off x="7959600" y="4707000"/>
              <a:ext cx="120960" cy="100080"/>
            </a:xfrm>
            <a:custGeom>
              <a:avLst/>
              <a:gdLst>
                <a:gd name="textAreaLeft" fmla="*/ 360 w 120960"/>
                <a:gd name="textAreaRight" fmla="*/ 121680 w 1209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6" h="94">
                  <a:moveTo>
                    <a:pt x="82" y="14"/>
                  </a:moveTo>
                  <a:lnTo>
                    <a:pt x="82" y="14"/>
                  </a:lnTo>
                  <a:lnTo>
                    <a:pt x="74" y="8"/>
                  </a:lnTo>
                  <a:lnTo>
                    <a:pt x="66" y="2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2" y="8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8" y="7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2" y="86"/>
                  </a:lnTo>
                  <a:lnTo>
                    <a:pt x="30" y="90"/>
                  </a:lnTo>
                  <a:lnTo>
                    <a:pt x="38" y="92"/>
                  </a:lnTo>
                  <a:lnTo>
                    <a:pt x="48" y="94"/>
                  </a:lnTo>
                  <a:lnTo>
                    <a:pt x="48" y="94"/>
                  </a:lnTo>
                  <a:lnTo>
                    <a:pt x="58" y="92"/>
                  </a:lnTo>
                  <a:lnTo>
                    <a:pt x="66" y="90"/>
                  </a:lnTo>
                  <a:lnTo>
                    <a:pt x="74" y="86"/>
                  </a:lnTo>
                  <a:lnTo>
                    <a:pt x="82" y="80"/>
                  </a:lnTo>
                  <a:lnTo>
                    <a:pt x="82" y="80"/>
                  </a:lnTo>
                  <a:lnTo>
                    <a:pt x="88" y="72"/>
                  </a:lnTo>
                  <a:lnTo>
                    <a:pt x="92" y="64"/>
                  </a:lnTo>
                  <a:lnTo>
                    <a:pt x="94" y="56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4" y="38"/>
                  </a:lnTo>
                  <a:lnTo>
                    <a:pt x="92" y="28"/>
                  </a:lnTo>
                  <a:lnTo>
                    <a:pt x="88" y="20"/>
                  </a:lnTo>
                  <a:lnTo>
                    <a:pt x="82" y="14"/>
                  </a:lnTo>
                  <a:lnTo>
                    <a:pt x="82" y="14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 flipH="1">
              <a:off x="7931880" y="4282920"/>
              <a:ext cx="171720" cy="381240"/>
            </a:xfrm>
            <a:custGeom>
              <a:avLst/>
              <a:gdLst>
                <a:gd name="textAreaLeft" fmla="*/ -360 w 171720"/>
                <a:gd name="textAreaRight" fmla="*/ 171720 w 17172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134" h="356">
                  <a:moveTo>
                    <a:pt x="44" y="356"/>
                  </a:moveTo>
                  <a:lnTo>
                    <a:pt x="86" y="356"/>
                  </a:lnTo>
                  <a:lnTo>
                    <a:pt x="86" y="356"/>
                  </a:lnTo>
                  <a:lnTo>
                    <a:pt x="100" y="262"/>
                  </a:lnTo>
                  <a:lnTo>
                    <a:pt x="116" y="164"/>
                  </a:lnTo>
                  <a:lnTo>
                    <a:pt x="116" y="164"/>
                  </a:lnTo>
                  <a:lnTo>
                    <a:pt x="128" y="84"/>
                  </a:lnTo>
                  <a:lnTo>
                    <a:pt x="134" y="46"/>
                  </a:lnTo>
                  <a:lnTo>
                    <a:pt x="134" y="46"/>
                  </a:lnTo>
                  <a:lnTo>
                    <a:pt x="132" y="38"/>
                  </a:lnTo>
                  <a:lnTo>
                    <a:pt x="128" y="28"/>
                  </a:lnTo>
                  <a:lnTo>
                    <a:pt x="122" y="20"/>
                  </a:lnTo>
                  <a:lnTo>
                    <a:pt x="114" y="14"/>
                  </a:lnTo>
                  <a:lnTo>
                    <a:pt x="114" y="14"/>
                  </a:lnTo>
                  <a:lnTo>
                    <a:pt x="104" y="8"/>
                  </a:lnTo>
                  <a:lnTo>
                    <a:pt x="92" y="4"/>
                  </a:lnTo>
                  <a:lnTo>
                    <a:pt x="8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2" y="0"/>
                  </a:lnTo>
                  <a:lnTo>
                    <a:pt x="40" y="4"/>
                  </a:lnTo>
                  <a:lnTo>
                    <a:pt x="28" y="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0" y="20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4" y="84"/>
                  </a:lnTo>
                  <a:lnTo>
                    <a:pt x="16" y="164"/>
                  </a:lnTo>
                  <a:lnTo>
                    <a:pt x="16" y="164"/>
                  </a:lnTo>
                  <a:lnTo>
                    <a:pt x="32" y="262"/>
                  </a:lnTo>
                  <a:lnTo>
                    <a:pt x="44" y="356"/>
                  </a:lnTo>
                  <a:lnTo>
                    <a:pt x="44" y="356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11CD-5986-4EF9-A43B-7247F2C6A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nor Coordination Counci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ed in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d by chair and deputy chair, supported by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 financial and in-kind support from DfID, SCO, SIDA, UNDP and W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" name="Схема 6" descr=""/>
          <p:cNvPicPr/>
          <p:nvPr/>
        </p:nvPicPr>
        <p:blipFill>
          <a:blip r:embed="rId1"/>
          <a:srcRect l="21174" t="0" r="5775" b="0"/>
          <a:stretch/>
        </p:blipFill>
        <p:spPr>
          <a:xfrm>
            <a:off x="228600" y="-2665440"/>
            <a:ext cx="8675640" cy="114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E4D-E485-4D8B-B7DF-CD6782E17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CC progress on monitoring benchmark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487692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nchmar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tatus end 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hare disbursement forecasts with MOF during annual budget prepar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% of ODA disbursed in year schedu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umber of JCPS partners’ with multi-year program cycles agreed with Govern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crease in coordinated budget support by selected partn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 progr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DB, DfID, EU, Germany, SCO, UN, USAID, W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DB, IMF, WB expected to provide budget support in 2010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crease in number of program-based approaches, including progress in 4 criter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umber of successful project interventions scaled 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umber of multi-development partner missions, diagnostic reviews, joint evaluations and training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U/WB MoU on Social Prote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 Joint Progra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DB/WB Joint Country Portfolio Performance Reviews (JCPPR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ilot Project on Climate Resilience (PPC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se of at least one national financial management proced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ditions in place for increased budget sup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mplement at least one SWAp, or funds to implement sector strategy flow directly into budg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der revi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ealth SWAp under conside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mmitment to Shared Principles, and to broader Paris Declaration, as measured in OECD surve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ordinated country-level monitoring and evaluation, based on PRS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upport to Effective National Aid Coordination 2009-12 approved (DfID, SCO, SIDA, UNDP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de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6:51 PM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6:21:56Z</dcterms:created>
  <dc:creator>User</dc:creator>
  <dc:description/>
  <dc:language>en-US</dc:language>
  <cp:lastModifiedBy>TJRM Mission</cp:lastModifiedBy>
  <dcterms:modified xsi:type="dcterms:W3CDTF">2010-12-01T06:44:46Z</dcterms:modified>
  <cp:revision>215</cp:revision>
  <dc:subject/>
  <dc:title>Energy &amp; infra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182;#Office XP;#65;#Microsoft Office PowerPoint 2007;#184;#Office 2000;#64;#PowerPoint 2003;#79;#Template 12</vt:lpwstr>
  </property>
  <property fmtid="{D5CDD505-2E9C-101B-9397-08002B2CF9AE}" pid="6" name="Approval Level">
    <vt:lpwstr/>
  </property>
  <property fmtid="{D5CDD505-2E9C-101B-9397-08002B2CF9AE}" pid="7" name="AssetId">
    <vt:lpwstr>TS001164981</vt:lpwstr>
  </property>
  <property fmtid="{D5CDD505-2E9C-101B-9397-08002B2CF9AE}" pid="8" name="AssetType">
    <vt:lpwstr>TP</vt:lpwstr>
  </property>
  <property fmtid="{D5CDD505-2E9C-101B-9397-08002B2CF9AE}" pid="9" name="Assigned To">
    <vt:lpwstr/>
  </property>
  <property fmtid="{D5CDD505-2E9C-101B-9397-08002B2CF9AE}" pid="10" name="AuthoringAssetId">
    <vt:lpwstr>TP001164981</vt:lpwstr>
  </property>
  <property fmtid="{D5CDD505-2E9C-101B-9397-08002B2CF9AE}" pid="11" name="Categories">
    <vt:lpwstr/>
  </property>
  <property fmtid="{D5CDD505-2E9C-101B-9397-08002B2CF9AE}" pid="12" name="Content Type">
    <vt:lpwstr>OOFile</vt:lpwstr>
  </property>
  <property fmtid="{D5CDD505-2E9C-101B-9397-08002B2CF9AE}" pid="13" name="ContentTypeId">
    <vt:lpwstr>0x0101006025706CF4CD034688BEBAE97A2E701D020200C3831ACA17D8814887A164412888521E</vt:lpwstr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Keywords">
    <vt:lpwstr/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71516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lides">
    <vt:lpwstr>22</vt:lpwstr>
  </property>
  <property fmtid="{D5CDD505-2E9C-101B-9397-08002B2CF9AE}" pid="27" name="SourceTitle">
    <vt:lpwstr>Training presentation: OneNote 2003—Audio and video notes</vt:lpwstr>
  </property>
  <property fmtid="{D5CDD505-2E9C-101B-9397-08002B2CF9AE}" pid="28" name="Subject">
    <vt:lpwstr/>
  </property>
  <property fmtid="{D5CDD505-2E9C-101B-9397-08002B2CF9AE}" pid="29" name="TPAppVersion">
    <vt:lpwstr>11</vt:lpwstr>
  </property>
  <property fmtid="{D5CDD505-2E9C-101B-9397-08002B2CF9AE}" pid="30" name="TPApplication">
    <vt:lpwstr>PowerPoint</vt:lpwstr>
  </property>
  <property fmtid="{D5CDD505-2E9C-101B-9397-08002B2CF9AE}" pid="31" name="TPClientViewer">
    <vt:lpwstr>Microsoft Office PowerPoint</vt:lpwstr>
  </property>
  <property fmtid="{D5CDD505-2E9C-101B-9397-08002B2CF9AE}" pid="32" name="TPCommandLine">
    <vt:lpwstr>{PP} /n {FilePath}</vt:lpwstr>
  </property>
  <property fmtid="{D5CDD505-2E9C-101B-9397-08002B2CF9AE}" pid="33" name="TPComponent">
    <vt:lpwstr>PPTFiles</vt:lpwstr>
  </property>
  <property fmtid="{D5CDD505-2E9C-101B-9397-08002B2CF9AE}" pid="34" name="TPFriendlyName">
    <vt:lpwstr>Training presentation: OneNote 2003—Audio and video notes</vt:lpwstr>
  </property>
  <property fmtid="{D5CDD505-2E9C-101B-9397-08002B2CF9AE}" pid="35" name="TPInstallLocation">
    <vt:lpwstr>{My Templates}</vt:lpwstr>
  </property>
  <property fmtid="{D5CDD505-2E9C-101B-9397-08002B2CF9AE}" pid="36" name="TPLaunchHelpLink">
    <vt:lpwstr/>
  </property>
  <property fmtid="{D5CDD505-2E9C-101B-9397-08002B2CF9AE}" pid="37" name="TPLaunchHelpLinkType">
    <vt:lpwstr>Template</vt:lpwstr>
  </property>
  <property fmtid="{D5CDD505-2E9C-101B-9397-08002B2CF9AE}" pid="38" name="TPNamespace">
    <vt:lpwstr>POWERPNT</vt:lpwstr>
  </property>
  <property fmtid="{D5CDD505-2E9C-101B-9397-08002B2CF9AE}" pid="39" name="TemplateStatus">
    <vt:lpwstr>Ready for publish</vt:lpwstr>
  </property>
  <property fmtid="{D5CDD505-2E9C-101B-9397-08002B2CF9AE}" pid="40" name="TrustLevel">
    <vt:lpwstr>Microsoft Managed Content</vt:lpwstr>
  </property>
  <property fmtid="{D5CDD505-2E9C-101B-9397-08002B2CF9AE}" pid="41" name="UACurrentWords">
    <vt:lpwstr>0</vt:lpwstr>
  </property>
  <property fmtid="{D5CDD505-2E9C-101B-9397-08002B2CF9AE}" pid="42" name="UALocRecommendation">
    <vt:lpwstr>Localize</vt:lpwstr>
  </property>
  <property fmtid="{D5CDD505-2E9C-101B-9397-08002B2CF9AE}" pid="43" name="_Author">
    <vt:lpwstr>Microsoft Corporation</vt:lpwstr>
  </property>
  <property fmtid="{D5CDD505-2E9C-101B-9397-08002B2CF9AE}" pid="44" name="_Category">
    <vt:lpwstr/>
  </property>
  <property fmtid="{D5CDD505-2E9C-101B-9397-08002B2CF9AE}" pid="45" name="_Comments">
    <vt:lpwstr/>
  </property>
  <property fmtid="{D5CDD505-2E9C-101B-9397-08002B2CF9AE}" pid="46" name="_Status">
    <vt:lpwstr/>
  </property>
  <property fmtid="{D5CDD505-2E9C-101B-9397-08002B2CF9AE}" pid="47" name="display_urn:schemas-microsoft-com:office:office#APAuthor">
    <vt:lpwstr>REDMOND\cynvey</vt:lpwstr>
  </property>
  <property fmtid="{D5CDD505-2E9C-101B-9397-08002B2CF9AE}" pid="48" name="display_urn:schemas-microsoft-com:office:office#APEditor">
    <vt:lpwstr>REDMOND\v-luannv</vt:lpwstr>
  </property>
</Properties>
</file>