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 Tj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1419-D059-4E04-9B02-0770C217A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2CAA-8728-4040-81CB-BA668D8F0501}" type="slidenum">
              <a:rPr b="1" i="1" lang="en-US" sz="1200" spc="-1" strike="noStrike">
                <a:solidFill>
                  <a:srgbClr val="000000"/>
                </a:solidFill>
                <a:latin typeface="Times New Roman Tj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 Tj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93D9-8DD6-4D94-BE1F-2D4B8A51D1BD}" type="slidenum">
              <a:rPr b="1" i="1" lang="en-US" sz="1200" spc="-1" strike="noStrike">
                <a:solidFill>
                  <a:srgbClr val="000000"/>
                </a:solidFill>
                <a:latin typeface="Times New Roman Tj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 Tj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D522-AC99-4727-95FE-967497ADB7DC}" type="slidenum">
              <a:rPr b="1" i="1" lang="en-US" sz="1200" spc="-1" strike="noStrike">
                <a:solidFill>
                  <a:srgbClr val="000000"/>
                </a:solidFill>
                <a:latin typeface="Times New Roman Tj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 Tj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1D2D-DB24-4500-A1DB-363F68254656}" type="slidenum">
              <a:rPr b="1" i="1" lang="en-US" sz="1200" spc="-1" strike="noStrike">
                <a:solidFill>
                  <a:srgbClr val="000000"/>
                </a:solidFill>
                <a:latin typeface="Times New Roman Tj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 Tj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06E2-BBAC-43FA-9DF0-0D354D70AC8D}" type="slidenum">
              <a:rPr b="1" i="1" lang="en-US" sz="1200" spc="-1" strike="noStrike">
                <a:solidFill>
                  <a:srgbClr val="000000"/>
                </a:solidFill>
                <a:latin typeface="Times New Roman Tj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 Tj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96F5-EE16-4F31-A15F-65B9B69AD0CE}" type="slidenum">
              <a:rPr b="1" i="1" lang="en-US" sz="1200" spc="-1" strike="noStrike">
                <a:solidFill>
                  <a:srgbClr val="000000"/>
                </a:solidFill>
                <a:latin typeface="Times New Roman Tj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 Tj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80B8-B480-4CC5-9E7A-F53B1D069616}" type="slidenum">
              <a:rPr b="1" i="1" lang="en-US" sz="1200" spc="-1" strike="noStrike">
                <a:solidFill>
                  <a:srgbClr val="000000"/>
                </a:solidFill>
                <a:latin typeface="Times New Roman Tj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 Tj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D5FF-0C9C-4E14-B684-2BA7837A1D60}" type="slidenum">
              <a:rPr b="1" i="1" lang="en-US" sz="1200" spc="-1" strike="noStrike">
                <a:solidFill>
                  <a:srgbClr val="000000"/>
                </a:solidFill>
                <a:latin typeface="Times New Roman Tj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 Tj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01A9-99F1-4963-9BE3-2EA1A3060D89}" type="slidenum">
              <a:rPr b="1" i="1" lang="en-US" sz="1200" spc="-1" strike="noStrike">
                <a:solidFill>
                  <a:srgbClr val="000000"/>
                </a:solidFill>
                <a:latin typeface="Times New Roman Tj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 Tj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EA6B-6BD0-4BD1-9B1A-6DA2E2D27040}" type="slidenum">
              <a:rPr b="1" i="1" lang="en-US" sz="1200" spc="-1" strike="noStrike">
                <a:solidFill>
                  <a:srgbClr val="000000"/>
                </a:solidFill>
                <a:latin typeface="Times New Roman Tj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 Tj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DFB1-290B-4950-B3C7-6CFFC33E8876}" type="slidenum">
              <a:rPr b="1" i="1" lang="en-US" sz="1200" spc="-1" strike="noStrike">
                <a:solidFill>
                  <a:srgbClr val="000000"/>
                </a:solidFill>
                <a:latin typeface="Times New Roman Tj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 Tj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467A-0A7D-4D92-B8F2-123A49A24C11}" type="slidenum">
              <a:rPr b="1" i="1" lang="en-US" sz="1200" spc="-1" strike="noStrike">
                <a:solidFill>
                  <a:srgbClr val="000000"/>
                </a:solidFill>
                <a:latin typeface="Times New Roman Tj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 Tj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1149-C99E-41D0-A8CD-EBD54FFE0B38}" type="slidenum">
              <a:rPr b="1" i="1" lang="en-US" sz="1200" spc="-1" strike="noStrike">
                <a:solidFill>
                  <a:srgbClr val="000000"/>
                </a:solidFill>
                <a:latin typeface="Times New Roman Tj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 Tj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C287-098A-4E1B-9770-CDB02D72E6C5}" type="slidenum">
              <a:rPr b="1" i="1" lang="en-US" sz="1200" spc="-1" strike="noStrike">
                <a:solidFill>
                  <a:srgbClr val="000000"/>
                </a:solidFill>
                <a:latin typeface="Times New Roman Tj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 Tj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7F3C-2891-4A1C-ADD1-C82645D21A49}" type="slidenum">
              <a:rPr b="1" i="1" lang="en-US" sz="1200" spc="-1" strike="noStrike">
                <a:solidFill>
                  <a:srgbClr val="000000"/>
                </a:solidFill>
                <a:latin typeface="Times New Roman Tj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Times New Roman Tj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0499-AF1F-4723-82EB-8F04E784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5F5D-1AF3-4CFF-988C-A9939227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C029-FFC8-4FC1-82A5-4C535251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CE6E-3DB8-4A05-9B59-562CCFF5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06F6-A1AD-4189-A770-A574352D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3A51-42BB-4F05-AEBB-21937141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6793-7BAE-4D92-A8CE-E2166108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543D-11FD-4462-BBD3-B2BDC3BA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8C1D-FAC5-434C-853B-9C7A2281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0808-CE8B-4EB3-B0BF-CEA94F1E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C0AE-D4CD-41AB-81DD-6CB9EF6C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77A0-C059-4EE5-B731-3241E83A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2A3F-16FF-49BF-8E5E-5C7AC082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E8C3-B918-42BE-94CE-39F843E9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C218-F371-4D8F-9C64-363ED3A6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6CBF-87D5-4514-BA1D-B668E620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FD74-49C1-4D87-97C5-F837AEB7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0D34-A86E-4A0F-8CB7-8892854F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1D61-3F25-44B4-B5DA-5E9661FF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AB8C-301C-42CE-B479-A5924B1F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271C-3CD2-446F-AAA6-8AB19744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1FCC-FDA0-4D4D-BFC5-1690E915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4499-1E5E-4F62-A24D-CFF4A067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0B18-244C-4206-817B-0DA8309A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 Tj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 Tj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 Tj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 Tj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 Tj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 Tj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 Tj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 Tj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 Tj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2EAD-99CF-4AD6-A109-0100B6C34B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imes New Roman Tj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imes New Roman Tj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imes New Roman Tj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Times New Roman Tj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 Tj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 Tj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Times New Roman Tj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 Tj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Times New Roman Tj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1D3B-D1F7-44B2-8040-BC2136B70B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-2286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Development Council under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ident of the Republic of Tajikistan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Forum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mber 3-4, 2010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and Transport—Problems and Prospects—Progress and Priorities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4495680" y="609588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er: Mr. Asadullo Gulomov,</a:t>
            </a:r>
            <a:endParaRPr b="1" i="1" lang="en-US" sz="1600" spc="-1" strike="noStrike">
              <a:solidFill>
                <a:srgbClr val="000000"/>
              </a:solidFill>
              <a:latin typeface="Times New Roman Tj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Deputy Prime Minister, Republic of Tajikistan</a:t>
            </a:r>
            <a:endParaRPr b="1" i="1" lang="en-US" sz="1600" spc="-1" strike="noStrike">
              <a:solidFill>
                <a:srgbClr val="000000"/>
              </a:solidFill>
              <a:latin typeface="Times New Roman Tj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Times New Roman Tj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</a:t>
            </a:r>
            <a:endParaRPr b="1" i="1" lang="en-US" sz="1600" spc="-1" strike="noStrike">
              <a:solidFill>
                <a:srgbClr val="000000"/>
              </a:solidFill>
              <a:latin typeface="Times New Roman Tj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Times New Roman Tj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595080"/>
            <a:ext cx="779328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―Recent Achiev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teen road improvement projects completed or underway―including 1,630 kms, 15 kms of tunnels, over 100 bridges―will enhance national cohesion and improve regional connectivity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izhny Pyanj bridge to Afghanistan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budget funding for road maintenance―to $300/km―which however only 1/4 of minimum required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ucturing of aviation sector, upgrading of Tajik Air’s equipment and Dushanbe airport (underwa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―Key Constraints and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 Challeng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2133720"/>
            <a:ext cx="81532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areas of national air, rail, and road infrastructure remain sub-standard and, despite recent gains, inhibit overall growth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jikistan remains relatively inaccessible and isolated, owing to still limited air and road links―within region and with outside world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24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state of local and rural roads limits rural communities’ access to local and regional markets and hinders development of rural bus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6714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 Strategy (PRS-3, 2010-1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 rehabilitation and upgrading of road network―to reduce transport costs, facilitate increased internal and external trade, and  enhance social and political cohesio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road transport industry through private secto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 investment in rail to improving efficiency of existing system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private sector development of aviation, subject to creation of transparent institutional framework―and limit public investment to institutional infrastructur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 traffic contro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  Policy and Reform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ies, 2010-12 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ttract increased investment, official and private―especially in roads, road transport, and civil aviatio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velop public-private partnership (PPP) investments, subject to creation of appropriate regulatory framework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mplete  rehabilitation and upgrading of main regional road transit corridors and link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mprove condition, including maintenance, of local and rural road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eek to reduce policy and physical obstacles to regional and international transport and tra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92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48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518760"/>
            <a:ext cx="8562960" cy="10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 investment in, and length of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ads rehabilitated, 2007-10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4" name="Object 3"/>
          <p:cNvGraphicFramePr/>
          <p:nvPr/>
        </p:nvGraphicFramePr>
        <p:xfrm>
          <a:off x="380880" y="1905120"/>
          <a:ext cx="84582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84582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7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770" fill="hold"/>
                                        <p:tgtEl>
                                          <p:spTgt spid="1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85960" y="838080"/>
            <a:ext cx="80294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ment in transport &amp; communications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mode, 2007-10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7" name="Object 3"/>
          <p:cNvGraphicFramePr/>
          <p:nvPr/>
        </p:nvGraphicFramePr>
        <p:xfrm>
          <a:off x="457200" y="2540160"/>
          <a:ext cx="8077320" cy="27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40160"/>
                    <a:ext cx="807732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jikistan’s estimated hydropower potential abou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 GW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with annual generation capacity totaling abou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7 bln. kW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f which onl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veloped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power accounts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otal electricity generated—of which up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sumed by TALCO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MLW&amp;WR irrigation—with summer surplus of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bln. kW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winter deficit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bln. kW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electricity generated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rge hydropower stations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ni-hydropower stations,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rban power and heat centers currently averages abou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bln. kW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nually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nt disconnection from Central Asian Power System (CAPS)—ending winter electricity imports — increases vulnerability of already fragile syst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7793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nt Achiev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160" y="19051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-structuring of Barki Tajik and Tajikgas (both ongoing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habilitation of several power plants and transmission line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of loss reduction and energy conservation progra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metering, fluorescent lighting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ionalization of, and phased increases in tariffs to cost recovery levels (by 2011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direct state involvement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mir Energy  (privately owned by AKF, IFC, SECO), Sangtuda 1 (GoT and RAO/UES joint venture), and Sangtuda 2 (B-O-T with 12½ year concess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Constrai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17600" y="1828800"/>
            <a:ext cx="826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k sector management, low tariff collections, and high system losses that contribute to waste costing up to 10% of GDP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ive economic and social impact of unreliable winter supply and wast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sonal (winter) reductions in industrial outpu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crop yields due to unavailability or irregular supply of pumped irrigatio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school attendance, especially in rural area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rior quality of health servi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 Challe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Tj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ckling system inefficiencies―specifically intensifying loss reduction efforts nationwid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ing winter deficit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rehabilitating/modernizing Nurek Hydropower Plant and Dushanbe Combined Heat &amp; Power―and by connecting regions not currently served to grid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institutional capac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ally improving overall governance and commercial, financial and operational performance o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ki Tajik and Tajiktransgas―as well as improving transparency of energy pricing proces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acting additional private sector investment, including throug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-private partnerships (PPPs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066680"/>
            <a:ext cx="7155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Strategy (PRS-3, 2010-1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-term go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chieve national energy independence by 2017― including to increase electricity supply to population fro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verage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hours daily in 2008 t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rs daily by 2012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energy losses from </a:t>
            </a:r>
            <a:r>
              <a:rPr b="0" lang="en-US" sz="2400" spc="-1" strike="noStrike">
                <a:solidFill>
                  <a:srgbClr val="000000"/>
                </a:solidFill>
                <a:latin typeface="Viner Hand ITC"/>
                <a:ea typeface="Times New Roman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% in 2008 t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2012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ncrease exports of electricity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entral and South Asia) and thus export reven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9328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y Priorities, 2010-1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2057040"/>
            <a:ext cx="830592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 rehabilitation and modernization of existing generation, transmission, and distribution facilities―to reduce losses and increase efficiency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construction of 100 mini-hydropower plant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act financing, private and official, for additional hydropower capacity (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gun) and transmission lines―to promote development of regional export markets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uct transmission lines―to extend access to electricity to all regions of the country;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ddition, implement coal projects and explore potential oil and gas reserve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99640"/>
            <a:ext cx="838224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Sector Funding Gap—PRS-3, 2010 -1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1" name="Object 2"/>
          <p:cNvGraphicFramePr/>
          <p:nvPr/>
        </p:nvGraphicFramePr>
        <p:xfrm>
          <a:off x="838080" y="2133720"/>
          <a:ext cx="7669440" cy="308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669440" cy="30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jikistan landlocked, mountainous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km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ay from sea—thus improved air, rail, and road connectivity vita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infrastructure inherited from FSU, but degraded― poor maintenance, civil war, natural disasters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ads account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passenger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/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cargo traffic, but 2/3 in poor conditio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unconnected rail lines carry bulk imports (bauxite) and exports (aluminum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mestic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jor international airlines link Tajikistan to rest of wor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93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―Backgroun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ideraj Akrami</dc:creator>
  <dc:description/>
  <dc:language>en-US</dc:language>
  <cp:lastModifiedBy>XP SP2</cp:lastModifiedBy>
  <dcterms:modified xsi:type="dcterms:W3CDTF">2010-11-28T17:34:08Z</dcterms:modified>
  <cp:revision>1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