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35F199-2DC8-4802-95CB-D5B50EA3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17C773-313B-473A-BBA3-C14D9EDAC3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80018A-CDA3-4D72-A5C8-AAA0A123B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B39712-E90D-4DF6-BE64-3C183E3249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iation—DCC recommends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elerated implementati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f recently approv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aviation sector strateg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including improved access by international airlines to Tajikistan’s airports and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0537C-0A55-4FB9-9975-9DE0B88342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2A37DA-D441-409E-B4CE-69526339D9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1575-4DF3-4E9F-8A43-AC630BA3C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BD7DA5-F9C9-4C84-94C7-0143AB2EC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67F435-4643-4FCF-88A7-62EF70A3AE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48353C-8223-4C9A-9456-DB027009C6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2607E9-279F-4F5A-8156-A66A3EE3CE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5988AB-E98C-4F5B-871B-B20D1A7ED5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2F4402-9687-487E-881C-E758A67A59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BADA4E-D850-4DC5-8F6B-B17E3E613F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4C44E3-D153-4725-9E8F-F5D9F506B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50-7B87-4244-9B87-C4455560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DD7-B3D2-4616-9612-88AF7519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5BE-FEBF-489A-9DF5-2F0DB997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903-13B4-4D71-8923-D74BE7EC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9314-B560-4F74-9D0F-DFA46210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244-1795-4455-87EB-97246A67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0D02-FEC9-4B28-93C4-1F96439B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CA9E-9563-40D2-AA38-E0505518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C957-CF40-430E-B0C7-5C626088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7C4E-422B-45F1-AA84-BDEAD687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44F4-70F8-4E3D-B9E8-61F4610F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32A-621E-4CA4-A57D-0DEFFD7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A1DC-6591-4AC9-AE27-5E67590D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1D2D-117F-40B2-BF77-E196CED5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29F-1F43-4EBC-BE87-02B55630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CC19-7674-4A43-877A-730E6E90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4B97-EFE5-4345-B3BF-080F1FD8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40ED-D23B-4800-8C53-0F3F204F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BADD-FF92-4A76-B993-A6137506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1CEC-63FC-404D-A02B-8832D6CA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5A5C-B1A5-4A66-A71E-94CE3E4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26D6-85F7-4032-A20E-76F12682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5B4-5788-4001-BB78-74F5628B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F7538-6477-43D4-843A-9A643904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BF06E-9CB4-4C12-99AE-71A3B14D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A636-D598-44F0-8959-3365132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443BE-4D5C-421C-811C-3E4A13C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39EEA-4DA4-42FA-8E42-010D0742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C03D-C48E-4BD5-BA40-670C417C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6FC3-3FC7-474C-A308-76426B13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E26-8CB9-4D9E-931F-2D353630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4AC-6F32-489E-8E53-17352441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9680-CB05-4775-AFE0-A967063E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C000-1B6B-4D9C-9395-F78F4E2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844-1F01-416F-9E42-1A634545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53D-710A-433B-920A-C8F1EA5E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00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4E7F-A770-43A1-891E-556102735A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010 Development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2AD-CA34-42B4-BABC-05E97FA5B8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1000" y="9144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7144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63d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12163d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00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Development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8DC-F9C5-42B5-9DCC-6625BFDBA0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-19080" y="3828960"/>
            <a:ext cx="9163080" cy="3029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23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97240"/>
            <a:ext cx="7772400" cy="14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Environment and 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4591080" y="4781520"/>
            <a:ext cx="4324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CC Presen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velopment For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-4 December, 2010 - Dushanbe, Tajikista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heck against deliver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EFA6-41A4-4613-955C-A2E858FDE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CC agrees with GoT’s assessment of recent achievements especiall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Resolution 111 (“freedom to farm”) and cotton debt resolution, which already stimulated agricultural diversification and grow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51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Land reform – almost 50,000 land-use right certificates issued to family farms, creation of secondary market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icultural lending – measures to strengthen overall financial system developed and under implement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lution 406 (Action Plan on Reforming Agricultural Sector) elaborated major reforms including changes to several laws and institutions - six working groups covering different policy areas established and preparing strategy docu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iculture Investment Plan 2010-15 prepared based on agreed development priorities and policy re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C0F-7CCF-49FE-B1C8-FE4B62AC4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atisfactory legal, regulatory and institutional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access by farmers to credit, financial and other support services – pilots/models available but outreach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or physical infrastructure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igation) and utilities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icity) resulting in low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favorable terms of trade, obstacles in accessing local agricultural products 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radation of natural resources – soil erosion, soil fertility, loss of arable 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k agricultural research, extension, train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F25A-9C8A-4994-97E5-0C13ECBA0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riorities 2011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 commitment and maintain momentum of ongoing agricultural reforms, especially implementation of “freedom to farm”, issuance of land-use certificates, amendments to land legislation, farmland restructuring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local authorities’ compliance with new policies, i.e. they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implementation of farm-level reforms, not simply “control” farmers’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 plan for trade, taxation, rural finance reforms required to increase farmers’ access to inputs, financing, advisory services, markets, irrigation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 local (regional and district) government administ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, reform agricultural support services system – input supply, marketing/processing, advisory/training services, veterinary services - to needs of new, smallholder-dominated agricul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E45A-75E1-4EB1-9607-FC645FFBE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riorities 2011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environment for promotion and development of rural entrepreneurship and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orm irrigation system and water management arrangements to requirements of small-scale farms – water users’ associations, etc. – and improve efficiency and effec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seed sub-sector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apacity building activities and technical and vocational education and training in rural areas, with specific focus on needs of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83AC-9BDB-4FE9-95C7-FC7788197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Development partners’ support to agricultu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VELOPMENT PARTN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ilitation of irrigation system and support to effective water management (including irrigation management and river basis developm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B, EBRD, IDB, SCO, USAID, W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financial serv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RD, GTZ*, IDB, IF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 support services – input supply, marketing/processing, training/advisory services, veterinarian services, see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ID, EBRD, EU, FAO, GTZ*, IFC, JICA, UNDP, USAID, WB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 reform, including registration &amp; cadastr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O, USAID, W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development, capacity building in ministries; support to policy/reform proces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O, UNDP, USAID, W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54"/>
          <p:cNvSpPr/>
          <p:nvPr/>
        </p:nvSpPr>
        <p:spPr>
          <a:xfrm>
            <a:off x="5707080" y="579744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*On behalf of German Government (BMZ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27C0-60D2-4235-A766-6DD9C04E4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nd of prese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hank you for your atten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D3BD-3410-405F-B4CA-9EF3D0AC9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Jeffrey Lehrer, USA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25DA-F4FB-4132-9946-E3A41C342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CC agrees with GoT’s account of recent achievements – exemplified by Tajikistan’s repeat performance as superior reformer in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Doing Business 2011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One-stop shop made starting a business easier, changes to insolvency law reduced processing times and will increase recoveries, and first credit bureau register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Joint Stock Company Law amendment (January 2010) strengthened investor protection by requiring greater corporate disclosu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rporate income tax reduced to 15% from 25% (effective 1 January 2009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w permits law drafted – with significant reduction in total number of permits and impact assessment – and now under review by Go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w reforms being discussed/underway in starting a business, protecting investors, construction permits, registering property, tax administration, trade, secured transa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4332-E614-4AB9-837A-5AE7400C8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jikistan’s private sector (45% of GDP) and private sector investment (6% of GDP) remain small by regional and international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d on business surveys, significant obstacles remain 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liabl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ctricity supply and seasonal ratio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ed and expensive access to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tax rates, large number of annual tax payments, complex tax administration reg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adequate protection of legal r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knowledge and understanding of legal frame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nsistent enforcement and implementation of laws and reg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4CC-63C7-4C7F-AC50-7641BA54E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nged role of government as enabler and regulator of private sector development rather than as planner still not fully understood or accep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ck of capacity, and sometimes political will, within national and local government institutions to implement re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d, consistent GoT efforts to address these challenges can improve business environment and promote investment, which is crucial to country’s develop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6290-B232-4446-970C-212EC08FD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riorities 2011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usiness start up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– complete implementation of the OSS, by fully enforcing single registration nu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Adopt and implement law on perm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xation – introduce risk-based method for audit selection; reduce burden of tax administration by simplifying compliance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de procedur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roceed with implementation of “single window” for tr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celerate reform of Tajikstandard to comply with WTO Technical Barriers to Trade requir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C269-2C4B-4768-B993-984DEB548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riorities 2011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ccess to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nce – modernize collateral regime to facilitate use of moveable assets as collateral and improve access to credit by SMEs, harmonize VAT exemptions for leased equi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struction sect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implement adjustments to system adopted to date, but develop broad revamping of overall regulatory framework to reduce overlapping competencies among GoT agen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lement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reforms already underway and ensure business people have full and transparen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ccess to all new rules and regul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9E8A-210C-4692-989C-A0BD48B84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velopment partners’ support to business environ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8229600" cy="4525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I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VELOPMENT PARTN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slation, regulatory framework, business environment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veys,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vestment counci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ID, EBRD, IFC, SCO, USAID, W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xation, tr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BRD, IFC, SCO, UNDP, USAID, W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 promotion, private sector development, banking system, fin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B, DfID, EBRD, IFC, USAID, WB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ional development, capacity building, support to policy/reform 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fID, EBRD, IFC, SCO, USAID, W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010 Development Foru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300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9A4-68FA-40EC-BB8A-4755502BA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Nassim Jawad, FA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73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30/11/2010 5:24 PM</a:t>
            </a:r>
          </a:p>
        </p:txBody>
      </p:sp>
    </p:spTree>
  </p:cSld>
  <p:transition spd="med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06:21:56Z</dcterms:created>
  <dc:creator>User</dc:creator>
  <dc:description/>
  <dc:language>en-US</dc:language>
  <cp:lastModifiedBy>TJRM Mission</cp:lastModifiedBy>
  <dcterms:modified xsi:type="dcterms:W3CDTF">2010-11-30T12:37:06Z</dcterms:modified>
  <cp:revision>193</cp:revision>
  <dc:subject/>
  <dc:title>Energy &amp; infra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182;#Office XP;#65;#Microsoft Office PowerPoint 2007;#184;#Office 2000;#64;#PowerPoint 2003;#79;#Template 12</vt:lpwstr>
  </property>
  <property fmtid="{D5CDD505-2E9C-101B-9397-08002B2CF9AE}" pid="6" name="Approval Level">
    <vt:lpwstr/>
  </property>
  <property fmtid="{D5CDD505-2E9C-101B-9397-08002B2CF9AE}" pid="7" name="AssetId">
    <vt:lpwstr>TS001164981</vt:lpwstr>
  </property>
  <property fmtid="{D5CDD505-2E9C-101B-9397-08002B2CF9AE}" pid="8" name="AssetType">
    <vt:lpwstr>TP</vt:lpwstr>
  </property>
  <property fmtid="{D5CDD505-2E9C-101B-9397-08002B2CF9AE}" pid="9" name="Assigned To">
    <vt:lpwstr/>
  </property>
  <property fmtid="{D5CDD505-2E9C-101B-9397-08002B2CF9AE}" pid="10" name="AuthoringAssetId">
    <vt:lpwstr>TP001164981</vt:lpwstr>
  </property>
  <property fmtid="{D5CDD505-2E9C-101B-9397-08002B2CF9AE}" pid="11" name="Categories">
    <vt:lpwstr/>
  </property>
  <property fmtid="{D5CDD505-2E9C-101B-9397-08002B2CF9AE}" pid="12" name="Content Type">
    <vt:lpwstr>OOFile</vt:lpwstr>
  </property>
  <property fmtid="{D5CDD505-2E9C-101B-9397-08002B2CF9AE}" pid="13" name="ContentTypeId">
    <vt:lpwstr>0x0101006025706CF4CD034688BEBAE97A2E701D020200C3831ACA17D8814887A164412888521E</vt:lpwstr>
  </property>
  <property fmtid="{D5CDD505-2E9C-101B-9397-08002B2CF9AE}" pid="14" name="IsDeleted">
    <vt:lpwstr>0</vt:lpwstr>
  </property>
  <property fmtid="{D5CDD505-2E9C-101B-9397-08002B2CF9AE}" pid="15" name="IsSearchable">
    <vt:lpwstr>0</vt:lpwstr>
  </property>
  <property fmtid="{D5CDD505-2E9C-101B-9397-08002B2CF9AE}" pid="16" name="Keywords">
    <vt:lpwstr/>
  </property>
  <property fmtid="{D5CDD505-2E9C-101B-9397-08002B2CF9AE}" pid="17" name="Markets">
    <vt:lpwstr/>
  </property>
  <property fmtid="{D5CDD505-2E9C-101B-9397-08002B2CF9AE}" pid="18" name="Milestone">
    <vt:lpwstr>Continuous</vt:lpwstr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71516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lides">
    <vt:lpwstr>22</vt:lpwstr>
  </property>
  <property fmtid="{D5CDD505-2E9C-101B-9397-08002B2CF9AE}" pid="27" name="SourceTitle">
    <vt:lpwstr>Training presentation: OneNote 2003—Audio and video notes</vt:lpwstr>
  </property>
  <property fmtid="{D5CDD505-2E9C-101B-9397-08002B2CF9AE}" pid="28" name="Subject">
    <vt:lpwstr/>
  </property>
  <property fmtid="{D5CDD505-2E9C-101B-9397-08002B2CF9AE}" pid="29" name="TPAppVersion">
    <vt:lpwstr>11</vt:lpwstr>
  </property>
  <property fmtid="{D5CDD505-2E9C-101B-9397-08002B2CF9AE}" pid="30" name="TPApplication">
    <vt:lpwstr>PowerPoint</vt:lpwstr>
  </property>
  <property fmtid="{D5CDD505-2E9C-101B-9397-08002B2CF9AE}" pid="31" name="TPClientViewer">
    <vt:lpwstr>Microsoft Office PowerPoint</vt:lpwstr>
  </property>
  <property fmtid="{D5CDD505-2E9C-101B-9397-08002B2CF9AE}" pid="32" name="TPCommandLine">
    <vt:lpwstr>{PP} /n {FilePath}</vt:lpwstr>
  </property>
  <property fmtid="{D5CDD505-2E9C-101B-9397-08002B2CF9AE}" pid="33" name="TPComponent">
    <vt:lpwstr>PPTFiles</vt:lpwstr>
  </property>
  <property fmtid="{D5CDD505-2E9C-101B-9397-08002B2CF9AE}" pid="34" name="TPFriendlyName">
    <vt:lpwstr>Training presentation: OneNote 2003—Audio and video notes</vt:lpwstr>
  </property>
  <property fmtid="{D5CDD505-2E9C-101B-9397-08002B2CF9AE}" pid="35" name="TPInstallLocation">
    <vt:lpwstr>{My Templates}</vt:lpwstr>
  </property>
  <property fmtid="{D5CDD505-2E9C-101B-9397-08002B2CF9AE}" pid="36" name="TPLaunchHelpLink">
    <vt:lpwstr/>
  </property>
  <property fmtid="{D5CDD505-2E9C-101B-9397-08002B2CF9AE}" pid="37" name="TPLaunchHelpLinkType">
    <vt:lpwstr>Template</vt:lpwstr>
  </property>
  <property fmtid="{D5CDD505-2E9C-101B-9397-08002B2CF9AE}" pid="38" name="TPNamespace">
    <vt:lpwstr>POWERPNT</vt:lpwstr>
  </property>
  <property fmtid="{D5CDD505-2E9C-101B-9397-08002B2CF9AE}" pid="39" name="TemplateStatus">
    <vt:lpwstr>Ready for publish</vt:lpwstr>
  </property>
  <property fmtid="{D5CDD505-2E9C-101B-9397-08002B2CF9AE}" pid="40" name="TrustLevel">
    <vt:lpwstr>Microsoft Managed Content</vt:lpwstr>
  </property>
  <property fmtid="{D5CDD505-2E9C-101B-9397-08002B2CF9AE}" pid="41" name="UACurrentWords">
    <vt:lpwstr>0</vt:lpwstr>
  </property>
  <property fmtid="{D5CDD505-2E9C-101B-9397-08002B2CF9AE}" pid="42" name="UALocRecommendation">
    <vt:lpwstr>Localize</vt:lpwstr>
  </property>
  <property fmtid="{D5CDD505-2E9C-101B-9397-08002B2CF9AE}" pid="43" name="_Author">
    <vt:lpwstr>Microsoft Corporation</vt:lpwstr>
  </property>
  <property fmtid="{D5CDD505-2E9C-101B-9397-08002B2CF9AE}" pid="44" name="_Category">
    <vt:lpwstr/>
  </property>
  <property fmtid="{D5CDD505-2E9C-101B-9397-08002B2CF9AE}" pid="45" name="_Comments">
    <vt:lpwstr/>
  </property>
  <property fmtid="{D5CDD505-2E9C-101B-9397-08002B2CF9AE}" pid="46" name="_Status">
    <vt:lpwstr/>
  </property>
  <property fmtid="{D5CDD505-2E9C-101B-9397-08002B2CF9AE}" pid="47" name="display_urn:schemas-microsoft-com:office:office#APAuthor">
    <vt:lpwstr>REDMOND\cynvey</vt:lpwstr>
  </property>
  <property fmtid="{D5CDD505-2E9C-101B-9397-08002B2CF9AE}" pid="48" name="display_urn:schemas-microsoft-com:office:office#APEditor">
    <vt:lpwstr>REDMOND\v-luannv</vt:lpwstr>
  </property>
</Properties>
</file>