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6E85-0261-445C-A813-62517E6CFB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F224-AB1B-40A5-8EDE-961586F472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64C9-38A2-4416-8E82-C378837EF8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00BD-68CC-4CBA-BDB3-B276176799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142-A398-4B15-8EC5-1832BB3E7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8D3D-4C69-4B96-A212-CC624A0430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7B3-B6D7-4823-937D-5E8B9DF61E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1AE-E849-4CDF-923C-1506A2977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77DD-5B43-4EC0-BE4A-C5BC7FFF5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B8D2-BABA-4149-943D-70364A7EE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0514-F90A-4363-A5A8-692225205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BBD5-F234-41DE-BE60-22204AF27F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5993-B775-4BB2-B6F8-9847CC1C2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5C37-B1D4-4C8D-B50B-68EEE428CB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4A67-1526-4DF6-8A55-BD69CBD0F0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F76-C045-436F-83AD-10E5A5ED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6514-F6CC-48E2-BD3B-79493620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895-8563-4F2D-92E5-43F4F4CC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5DC-7EE9-456D-9A56-F471F624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A9D-61AF-4327-A06C-64DDDFC6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37A4-5837-4B8D-9C43-F0B4D5A9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1A3C-378E-4152-A441-B50B49A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F666-E28D-428B-AA2F-D1A2BF29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66EF-8FF3-447A-B509-5EE85A2A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2987-B6AF-41D3-9045-F53473AA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C9FB-20F2-470A-B1FE-D8BEF73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8EA-8683-4AC5-A493-60318CF1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BA04-A764-48A0-9AAF-07D450C9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E817-2030-4A76-AE80-D29F1161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7D06-26B0-4A8C-9E06-540B629C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3B8-5009-4B21-87E9-0F2BF1FD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84FE-0F37-4B00-9EE5-9E632155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CAA31-BDB8-4A6C-B23F-8A049CBA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A7A2-7AFE-4154-9E5D-70143F8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B6A5-4245-4C5B-B644-BDF10BA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B7DA-E0FB-4947-9062-88B2A0A4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1A9C-F3A1-45FB-B77C-D44C5A8A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8BF-9635-4B10-8289-988E6D78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180D-AFD4-4E1A-8FA5-1A89C7BD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5C8B4-BC18-4A9C-AF72-E767FF4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884F8-F38F-43AE-8F61-708932DB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6484C-A11B-493D-9AF3-97BB79F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580DE-C01E-4E90-8FAE-CAC9F7DA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ED1B1-DFC4-43AD-94C0-982654CB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2EFF-A850-4973-BA92-3FEC02FF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4E8-F855-4A42-9734-9050A7A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D28-3AB5-41F3-93B5-D04B2D8B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559-DBA2-48E4-A51B-AB3A3AD5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09B4-7A5D-4E9F-B910-CC77F3B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BBE-B035-4BEA-A696-0FEF383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E34-852B-4032-8709-1109A94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7DA2-FBEA-466A-84C3-48468E8175C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3F60-017A-45E0-87D3-F7CA2E5B52B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19A-3FA7-4293-A0B8-38222A86A17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-2286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213920"/>
            <a:ext cx="838224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evelopment Council under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ident of the Republic of Tajikistan</a:t>
            </a:r>
            <a:br>
              <a:rPr sz="2800"/>
            </a:br>
            <a:br>
              <a:rPr sz="12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Forum</a:t>
            </a: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3-4, 2010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Environment and Agriculture Reforms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, Challenges, Next Step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3520" y="5790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: Mr. Murodali Alimardon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uty Prime Minister, Republic of Tajikist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054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637920"/>
            <a:ext cx="73677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gricultural Reform: Progress and Challenges (2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520" y="12949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tton Debt resolved as well as significant success in improving agricultural supply chains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edom to farm” i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ayon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districts) helping promote crop diversification (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i.e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way from cotton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ver 10,000 land-use right certificates issued to family farms, but land tenure needs to be made more secu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raft Land Code providing for creation of market in land-use rights to be passed in 2010 and implemented in 2011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chanisms to ensure farmers’ access to credit  and irrigation being developed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nciples for reform of central and local government bodies define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0440-9954-4800-A144-A965762D7B7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6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19280" y="637920"/>
            <a:ext cx="6996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gricultural Reform: Progress and Challenges (3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Номер слайда 5"/>
          <p:cNvSpPr/>
          <p:nvPr/>
        </p:nvSpPr>
        <p:spPr>
          <a:xfrm>
            <a:off x="7956720" y="649296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7F7-B92A-4F11-8812-FC85F1AC9B7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539640" y="1341000"/>
            <a:ext cx="82296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vide overall economic, legal, financial and tax opportunities in the sphere of agro business, provide secure business environmen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lement agricultural reform strategy aimed at maximizing farms’ profits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e nationwide implementation of ‘freedom to farm’,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i.e.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enable farmers and related agro-processing businesses to make production decisions independently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mprove legislation related to securing property right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gulate access to land title for registration/cadastre purpos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597960"/>
            <a:ext cx="74674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gricultural Development Priorit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801-A834-42A3-B608-6B6CD78A4AE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sed on lessons learned (2007-09), and NDS/PRS-3 priorities, agricultural development, including food security, objectives for 2010-12 ar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increase overall sectoral efficiency, especially of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tton sub-sector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96040" indent="-241200" algn="just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improve environment for development of rural      businesses and entrepreneurshi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enhance security of land-use right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enable more effective management and use of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ricultural, including irrigation, infrastructu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ensure proper nutrition of rural popu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9343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gricultural Investment Plan and Financing Requirement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56760" y="1341000"/>
            <a:ext cx="8572680" cy="47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ased on above development priorities and planned reforms, Government has prepared five-year investment plan, 2010-15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nned investment totals US$ 1.28 billion, or US$ 200 million annually, equivalent to 3-4 % GDP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imated development partner financing totals about US$ 380 million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timated budget financing totals about US$ 72 million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us, about US$ 830 million additional financing needed for projects in 2013 and beyo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6CD-6B29-4371-BF3E-E0126B4CA3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ank you!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9F1-4CD5-4F0C-810F-6F935DDECCD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14320" y="356760"/>
            <a:ext cx="66294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Goals &amp; Key Directions of PRS-3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7120" y="1341000"/>
            <a:ext cx="8143920" cy="33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o promote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ustainable growth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iversification of econom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through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private sector development and investment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in priority areas, especially in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agricultur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―as well as in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infrastructu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—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econd of PRS-3’s three overall go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Section 3, paragraph 7)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8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83F7-0032-4B31-B75C-7630E8F746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13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60" name="Содержимое 6"/>
          <p:cNvSpPr/>
          <p:nvPr/>
        </p:nvSpPr>
        <p:spPr>
          <a:xfrm>
            <a:off x="642960" y="1428840"/>
            <a:ext cx="7169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14320" y="356760"/>
            <a:ext cx="66294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ivate Sector Development means Improving Business Environ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7120" y="1928520"/>
            <a:ext cx="8143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Tajikistan top reformer in WB/IFC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oing Business 2011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―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139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of 183 countries (up from 149/183 in 2010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200 Days of Reform” program and “One-stop Shop” simplified administrative and legal process—and lifted country’s rating by 15 steps—for Starting a Busines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Rationalization of export-import procedures improved country’s rating for Trading Across Border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A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reduced t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20% and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come Tax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15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25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Consultative Council on Improving Investment Climate established December 2007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A909-9BB5-46A6-80C7-298A53F278A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3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66" name="Содержимое 6"/>
          <p:cNvSpPr/>
          <p:nvPr/>
        </p:nvSpPr>
        <p:spPr>
          <a:xfrm>
            <a:off x="642960" y="1285920"/>
            <a:ext cx="3857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Recent Achie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356760"/>
            <a:ext cx="66294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usiness Environ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85840" y="1642680"/>
            <a:ext cx="79293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ow labour productivity and weak incentives to hire labour in real sectors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dministrative barriers to market entr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High cost of doing business due to weak infrastructure, especially utilities—specifically electricity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No single institution or system for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moting investment, including incentives and guarantee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adequate business tax administration and enforcem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mited availability of reliable data for entrepreneurs, </a:t>
            </a:r>
            <a:r>
              <a:rPr b="0" i="1" lang="en-GB" sz="2400" spc="-1" strike="noStrike">
                <a:solidFill>
                  <a:srgbClr val="000000"/>
                </a:solidFill>
                <a:latin typeface="Constantia"/>
              </a:rPr>
              <a:t>e.g. 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o common database on investment opportuniti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75BF-32B9-4723-95DC-FCA81C569F4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3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72" name="Содержимое 6"/>
          <p:cNvSpPr/>
          <p:nvPr/>
        </p:nvSpPr>
        <p:spPr>
          <a:xfrm>
            <a:off x="571680" y="1214280"/>
            <a:ext cx="300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8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320" y="356760"/>
            <a:ext cx="66294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Business Environmen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5840" y="1642680"/>
            <a:ext cx="79293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ontinue implementation of structural reforms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stablish single coordinated institution and process for investment promotion, including provision of guarantees and incentives to potential investo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reate common nation-wide database listing  investment opportunities  for investors and entrepreneur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educe administrative barriers to entry and lower costs of doing busines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mprove and modernize business taxation system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98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ovide assistance with training, establishment of business association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316-54AC-434C-99E9-86B0422093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13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178" name="Содержимое 6"/>
          <p:cNvSpPr/>
          <p:nvPr/>
        </p:nvSpPr>
        <p:spPr>
          <a:xfrm>
            <a:off x="571680" y="1214280"/>
            <a:ext cx="55846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S-3 Policy Priorities, 2010-1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803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0280" y="22050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mproving overall business environment will help support further development of agricultural and agri-business  activities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iven large agricultural/agribusiness financing needs 2010-15—and very limited budgetary and official external aid resources available—private sector development and investment crucial for agricultural and overall economic growth;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ivate sector investment especially important to help diversify agriculture and promote agro-processing and related industri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8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8440" y="333000"/>
            <a:ext cx="66294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griculture―background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ver 60% of population depend directly or indirectly on agriculture for livelihood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riculture accounts for 24% of GDP, 26% of export revenues, and 39% of tax revenues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n-cotton agriculture is key driver of future economic growth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form urgently needed to help absorb growing labor force and, indirectly, provide safety net for rural poor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form requires long-term development strateg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8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601F-DA6E-4F63-947C-87F051DDE3D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3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54" descr="fon"/>
          <p:cNvPicPr/>
          <p:nvPr/>
        </p:nvPicPr>
        <p:blipFill>
          <a:blip r:embed="rId1"/>
          <a:stretch/>
        </p:blipFill>
        <p:spPr>
          <a:xfrm>
            <a:off x="3780000" y="1190520"/>
            <a:ext cx="5364000" cy="56674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637920"/>
            <a:ext cx="7353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Key agricultural policy documents and legisl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341360"/>
            <a:ext cx="8431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Concept of agricultural policy of Republic of Tajikistan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Program of food security of Republic of Tajikistan through 2015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Resolution 111, Action Plan (road map) for Implementation of Farm Debt Resolution Strategy, 2007-2009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Presidential Decree 663 of May 30, 2009 “On additional measures for support of agriculture in Republic of Tajikistan”;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Government Resolution 406 of July 2, 2009 “On measures for implementation of Presidential Decree  663”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Agricultural Investment Plan for Republic of Tajikistan: Proposed Programs and Associated Measures, 2010-201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7B8C-D9E8-405E-AE8E-CCC2BBE3427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9" descr="ARM_!!!.jpg"/>
          <p:cNvPicPr/>
          <p:nvPr/>
        </p:nvPicPr>
        <p:blipFill>
          <a:blip r:embed="rId2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7280" y="495000"/>
            <a:ext cx="71391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gricultural Reform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Progress and Challenges (1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joint Government/Development Partner effort, Joint Monitoring and Coordination Unit (JMCU) established to coordinate and monitor implementation of above- mentioned decrees and resolutio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verall high-level Working Group on Agricultural Reform created―comprising Government and Development Partner experts—to help design comprehensive  agriculture reform strateg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orking Group on Agriculture Reform comprises six sub-working groups that cover following six issues: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451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ter and Irrig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451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and Refor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451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w Mechanisms of Agricultural Financi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451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ural Social Developm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451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ocal Government Reform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spcBef>
                <a:spcPts val="451"/>
              </a:spcBef>
              <a:buClr>
                <a:srgbClr val="009dd9"/>
              </a:buClr>
              <a:buSzPct val="70000"/>
              <a:buFont typeface="Constant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tton Debt Write Off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Рисунок 9" descr="ARM_!!!.jpg"/>
          <p:cNvPicPr/>
          <p:nvPr/>
        </p:nvPicPr>
        <p:blipFill>
          <a:blip r:embed="rId1"/>
          <a:stretch/>
        </p:blipFill>
        <p:spPr>
          <a:xfrm>
            <a:off x="0" y="0"/>
            <a:ext cx="12952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9:13:56Z</dcterms:created>
  <dc:creator>user</dc:creator>
  <dc:description/>
  <dc:language>en-US</dc:language>
  <cp:lastModifiedBy>XTreme</cp:lastModifiedBy>
  <dcterms:modified xsi:type="dcterms:W3CDTF">2010-11-18T10:53:41Z</dcterms:modified>
  <cp:revision>95</cp:revision>
  <dc:subject/>
  <dc:title>Вазорати кишоварзии  Љумњурии Тољикистон  мавзўъ: «Раванди татбиќи маќсадњои стратеги ва ќадамњои минбаъда дар самти таъмини амнияти озуќавори ва рушди соњаи кишоварзї»</dc:title>
</cp:coreProperties>
</file>